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0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3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5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2.xml.rels" ContentType="application/vnd.openxmlformats-package.relationships+xml"/>
  <Override PartName="/ppt/notesSlides/_rels/notesSlide33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385.xml.rels" ContentType="application/vnd.openxmlformats-package.relationships+xml"/>
  <Override PartName="/ppt/notesSlides/_rels/notesSlide390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386.xml.rels" ContentType="application/vnd.openxmlformats-package.relationships+xml"/>
  <Override PartName="/ppt/notesSlides/_rels/notesSlide391.xml.rels" ContentType="application/vnd.openxmlformats-package.relationships+xml"/>
  <Override PartName="/ppt/notesSlides/_rels/notesSlide240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36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387.xml.rels" ContentType="application/vnd.openxmlformats-package.relationships+xml"/>
  <Override PartName="/ppt/notesSlides/_rels/notesSlide392.xml.rels" ContentType="application/vnd.openxmlformats-package.relationships+xml"/>
  <Override PartName="/ppt/notesSlides/_rels/notesSlide241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38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7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37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37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209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250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399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207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208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39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5.xml.rels" ContentType="application/vnd.openxmlformats-package.relationships+xml"/>
  <Override PartName="/ppt/notesSlides/_rels/notesSlide33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230.xml.rels" ContentType="application/vnd.openxmlformats-package.relationships+xml"/>
  <Override PartName="/ppt/notesSlides/_rels/notesSlide394.xml.rels" ContentType="application/vnd.openxmlformats-package.relationships+xml"/>
  <Override PartName="/ppt/notesSlides/_rels/notesSlide247.xml.rels" ContentType="application/vnd.openxmlformats-package.relationships+xml"/>
  <Override PartName="/ppt/notesSlides/_rels/notesSlide38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393.xml.rels" ContentType="application/vnd.openxmlformats-package.relationships+xml"/>
  <Override PartName="/ppt/notesSlides/_rels/notesSlide38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25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397.xml.rels" ContentType="application/vnd.openxmlformats-package.relationships+xml"/>
  <Override PartName="/ppt/notesSlides/_rels/notesSlide253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398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252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37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95.xml.rels" ContentType="application/vnd.openxmlformats-package.relationships+xml"/>
  <Override PartName="/ppt/notesSlides/_rels/notesSlide24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370.xml.rels" ContentType="application/vnd.openxmlformats-package.relationships+xml"/>
  <Override PartName="/ppt/notesSlides/_rels/notesSlide255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372.xml.rels" ContentType="application/vnd.openxmlformats-package.relationships+xml"/>
  <Override PartName="/ppt/notesSlides/_rels/notesSlide246.xml.rels" ContentType="application/vnd.openxmlformats-package.relationships+xml"/>
  <Override PartName="/ppt/notesSlides/_rels/notesSlide35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251.xml.rels" ContentType="application/vnd.openxmlformats-package.relationships+xml"/>
  <Override PartName="/ppt/notesSlides/_rels/notesSlide217.xml.rels" ContentType="application/vnd.openxmlformats-package.relationships+xml"/>
  <Override PartName="/ppt/notesSlides/_rels/notesSlide222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2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334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249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383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1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382.xml.rels" ContentType="application/vnd.openxmlformats-package.relationships+xml"/>
  <Override PartName="/ppt/notesSlides/_rels/notesSlide224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223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239.xml.rels" ContentType="application/vnd.openxmlformats-package.relationships+xml"/>
  <Override PartName="/ppt/notesSlides/_rels/notesSlide244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37.xml.rels" ContentType="application/vnd.openxmlformats-package.relationships+xml"/>
  <Override PartName="/ppt/notesSlides/_rels/notesSlide384.xml.rels" ContentType="application/vnd.openxmlformats-package.relationships+xml"/>
  <Override PartName="/ppt/notesSlides/_rels/notesSlide24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238.xml.rels" ContentType="application/vnd.openxmlformats-package.relationships+xml"/>
  <Override PartName="/ppt/notesSlides/_rels/notesSlide243.xml.rels" ContentType="application/vnd.openxmlformats-package.relationships+xml"/>
  <Override PartName="/ppt/notesSlides/_rels/notesSlide3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6.xml.rels" ContentType="application/vnd.openxmlformats-package.relationships+xml"/>
  <Override PartName="/ppt/notesSlides/_rels/notesSlide215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31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333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33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58.xml.rels" ContentType="application/vnd.openxmlformats-package.relationships+xml"/>
  <Override PartName="/ppt/notesSlides/_rels/notesSlide232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400.xml.rels" ContentType="application/vnd.openxmlformats-package.relationships+xml"/>
  <Override PartName="/ppt/notesSlides/_rels/notesSlide374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216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221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363.xml.rels" ContentType="application/vnd.openxmlformats-package.relationships+xml"/>
  <Override PartName="/ppt/notesSlides/_rels/notesSlide259.xml.rels" ContentType="application/vnd.openxmlformats-package.relationships+xml"/>
  <Override PartName="/ppt/notesSlides/_rels/notesSlide210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338.xml.rels" ContentType="application/vnd.openxmlformats-package.relationships+xml"/>
  <Override PartName="/ppt/notesSlides/_rels/notesSlide34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344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7.xml.rels" ContentType="application/vnd.openxmlformats-package.relationships+xml"/>
  <Override PartName="/ppt/notesSlides/_rels/notesSlide352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8.xml.rels" ContentType="application/vnd.openxmlformats-package.relationships+xml"/>
  <Override PartName="/ppt/notesSlides/_rels/notesSlide353.xml.rels" ContentType="application/vnd.openxmlformats-package.relationships+xml"/>
  <Override PartName="/ppt/notesSlides/_rels/notesSlide3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4.xml.rels" ContentType="application/vnd.openxmlformats-package.relationships+xml"/>
  <Override PartName="/ppt/notesSlides/_rels/notesSlide324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55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5.xml.rels" ContentType="application/vnd.openxmlformats-package.relationships+xml"/>
  <Override PartName="/ppt/notesSlides/_rels/notesSlide361.xml.rels" ContentType="application/vnd.openxmlformats-package.relationships+xml"/>
  <Override PartName="/ppt/notesSlides/_rels/notesSlide25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76.xml.rels" ContentType="application/vnd.openxmlformats-package.relationships+xml"/>
  <Override PartName="/ppt/notesSlides/_rels/notesSlide360.xml.rels" ContentType="application/vnd.openxmlformats-package.relationships+xml"/>
  <Override PartName="/ppt/notesSlides/_rels/notesSlide2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59.xml.rels" ContentType="application/vnd.openxmlformats-package.relationships+xml"/>
  <Override PartName="/ppt/notesSlides/_rels/notesSlide364.xml.rels" ContentType="application/vnd.openxmlformats-package.relationships+xml"/>
  <Override PartName="/ppt/notesSlides/_rels/notesSlide375.xml.rels" ContentType="application/vnd.openxmlformats-package.relationships+xml"/>
  <Override PartName="/ppt/notesSlides/_rels/notesSlide38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3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1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373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7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7.xml.rels" ContentType="application/vnd.openxmlformats-package.relationships+xml"/>
  <Override PartName="/ppt/notesSlides/_rels/notesSlide362.xml.rels" ContentType="application/vnd.openxmlformats-package.relationships+xml"/>
  <Override PartName="/ppt/notesSlides/_rels/notesSlide258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66.xml.rels" ContentType="application/vnd.openxmlformats-package.relationships+xml"/>
  <Override PartName="/ppt/notesSlides/_rels/notesSlide323.xml.rels" ContentType="application/vnd.openxmlformats-package.relationships+xml"/>
  <Override PartName="/ppt/notesSlides/_rels/notesSlide2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11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99.xml.rels" ContentType="application/vnd.openxmlformats-package.relationships+xml"/>
  <Override PartName="/ppt/notesSlides/notesSlide257.xml" ContentType="application/vnd.openxmlformats-officedocument.presentationml.notesSlide+xml"/>
  <Override PartName="/ppt/notesSlides/notesSlide256.xml" ContentType="application/vnd.openxmlformats-officedocument.presentationml.notesSlide+xml"/>
  <Override PartName="/ppt/notesSlides/notesSlide255.xml" ContentType="application/vnd.openxmlformats-officedocument.presentationml.notesSlide+xml"/>
  <Override PartName="/ppt/notesSlides/notesSlide254.xml" ContentType="application/vnd.openxmlformats-officedocument.presentationml.notesSlide+xml"/>
  <Override PartName="/ppt/notesSlides/notesSlide253.xml" ContentType="application/vnd.openxmlformats-officedocument.presentationml.notesSlide+xml"/>
  <Override PartName="/ppt/notesSlides/notesSlide249.xml" ContentType="application/vnd.openxmlformats-officedocument.presentationml.notesSlide+xml"/>
  <Override PartName="/ppt/notesSlides/notesSlide248.xml" ContentType="application/vnd.openxmlformats-officedocument.presentationml.notesSlide+xml"/>
  <Override PartName="/ppt/notesSlides/notesSlide247.xml" ContentType="application/vnd.openxmlformats-officedocument.presentationml.notesSlide+xml"/>
  <Override PartName="/ppt/notesSlides/notesSlide246.xml" ContentType="application/vnd.openxmlformats-officedocument.presentationml.notesSlide+xml"/>
  <Override PartName="/ppt/notesSlides/notesSlide245.xml" ContentType="application/vnd.openxmlformats-officedocument.presentationml.notesSlide+xml"/>
  <Override PartName="/ppt/notesSlides/notesSlide244.xml" ContentType="application/vnd.openxmlformats-officedocument.presentationml.notesSlide+xml"/>
  <Override PartName="/ppt/notesSlides/notesSlide243.xml" ContentType="application/vnd.openxmlformats-officedocument.presentationml.notesSlide+xml"/>
  <Override PartName="/ppt/notesSlides/notesSlide239.xml" ContentType="application/vnd.openxmlformats-officedocument.presentationml.notesSlide+xml"/>
  <Override PartName="/ppt/notesSlides/notesSlide238.xml" ContentType="application/vnd.openxmlformats-officedocument.presentationml.notesSlide+xml"/>
  <Override PartName="/ppt/notesSlides/notesSlide237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233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232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59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358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224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223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222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221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49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348.xml" ContentType="application/vnd.openxmlformats-officedocument.presentationml.notesSlide+xml"/>
  <Override PartName="/ppt/notesSlides/notesSlide219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217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216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15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214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211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339.xml" ContentType="application/vnd.openxmlformats-officedocument.presentationml.notesSlide+xml"/>
  <Override PartName="/ppt/notesSlides/notesSlide210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338.xml" ContentType="application/vnd.openxmlformats-officedocument.presentationml.notesSlide+xml"/>
  <Override PartName="/ppt/notesSlides/notesSlide20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0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0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328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327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326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36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391.xml" ContentType="application/vnd.openxmlformats-officedocument.presentationml.notesSlide+xml"/>
  <Override PartName="/ppt/notesSlides/notesSlide323.xml" ContentType="application/vnd.openxmlformats-officedocument.presentationml.notesSlide+xml"/>
  <Override PartName="/ppt/notesSlides/notesSlide324.xml" ContentType="application/vnd.openxmlformats-officedocument.presentationml.notesSlide+xml"/>
  <Override PartName="/ppt/notesSlides/notesSlide32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58.xml" ContentType="application/vnd.openxmlformats-officedocument.presentationml.notesSlide+xml"/>
  <Override PartName="/ppt/notesSlides/notesSlide259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344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345.xml" ContentType="application/vnd.openxmlformats-officedocument.presentationml.notesSlide+xml"/>
  <Override PartName="/ppt/notesSlides/notesSlide35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52.xml" ContentType="application/vnd.openxmlformats-officedocument.presentationml.notesSlide+xml"/>
  <Override PartName="/ppt/notesSlides/notesSlide354.xml" ContentType="application/vnd.openxmlformats-officedocument.presentationml.notesSlide+xml"/>
  <Override PartName="/ppt/notesSlides/notesSlide355.xml" ContentType="application/vnd.openxmlformats-officedocument.presentationml.notesSlide+xml"/>
  <Override PartName="/ppt/notesSlides/notesSlide36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6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364.xml" ContentType="application/vnd.openxmlformats-officedocument.presentationml.notesSlide+xml"/>
  <Override PartName="/ppt/notesSlides/notesSlide337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3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67.xml" ContentType="application/vnd.openxmlformats-officedocument.presentationml.notesSlide+xml"/>
  <Override PartName="/ppt/notesSlides/notesSlide39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33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34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342.xml" ContentType="application/vnd.openxmlformats-officedocument.presentationml.notesSlide+xml"/>
  <Override PartName="/ppt/notesSlides/notesSlide37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3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7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380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375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7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39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373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39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72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39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362.xml" ContentType="application/vnd.openxmlformats-officedocument.presentationml.notesSlide+xml"/>
  <Override PartName="/ppt/notesSlides/notesSlide400.xml" ContentType="application/vnd.openxmlformats-officedocument.presentationml.notesSlide+xml"/>
  <Override PartName="/ppt/notesSlides/notesSlide371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34.xml" ContentType="application/vnd.openxmlformats-officedocument.presentationml.notesSlide+xml"/>
  <Override PartName="/ppt/notesSlides/notesSlide3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332.xml" ContentType="application/vnd.openxmlformats-officedocument.presentationml.notesSlide+xml"/>
  <Override PartName="/ppt/notesSlides/notesSlide331.xml" ContentType="application/vnd.openxmlformats-officedocument.presentationml.notesSlide+xml"/>
  <Override PartName="/ppt/notesSlides/notesSlide390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70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39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79.xml" ContentType="application/vnd.openxmlformats-officedocument.presentationml.notesSlide+xml"/>
  <Override PartName="/ppt/notesSlides/notesSlide251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39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50.xml" ContentType="application/vnd.openxmlformats-officedocument.presentationml.notesSlide+xml"/>
  <Override PartName="/ppt/notesSlides/notesSlide37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39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39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357.xml" ContentType="application/vnd.openxmlformats-officedocument.presentationml.notesSlide+xml"/>
  <Override PartName="/ppt/notesSlides/notesSlide38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42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38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369.xml" ContentType="application/vnd.openxmlformats-officedocument.presentationml.notesSlide+xml"/>
  <Override PartName="/ppt/notesSlides/notesSlide241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38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368.xml" ContentType="application/vnd.openxmlformats-officedocument.presentationml.notesSlide+xml"/>
  <Override PartName="/ppt/notesSlides/notesSlide240.xml" ContentType="application/vnd.openxmlformats-officedocument.presentationml.notesSlide+xml"/>
  <Override PartName="/ppt/notesSlides/notesSlide38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38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8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347.xml" ContentType="application/vnd.openxmlformats-officedocument.presentationml.notesSlide+xml"/>
  <Override PartName="/ppt/notesSlides/notesSlide3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3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5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356.xml" ContentType="application/vnd.openxmlformats-officedocument.presentationml.notesSlide+xml"/>
  <Override PartName="/ppt/notesSlides/notesSlide38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329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346.xml" ContentType="application/vnd.openxmlformats-officedocument.presentationml.notesSlide+xml"/>
  <Override PartName="/ppt/notesSlides/notesSlide38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16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64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380.xml.rels" ContentType="application/vnd.openxmlformats-package.relationships+xml"/>
  <Override PartName="/ppt/slides/_rels/slide375.xml.rels" ContentType="application/vnd.openxmlformats-package.relationships+xml"/>
  <Override PartName="/ppt/slides/_rels/slide336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30.xml.rels" ContentType="application/vnd.openxmlformats-package.relationships+xml"/>
  <Override PartName="/ppt/slides/_rels/slide102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71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345.xml.rels" ContentType="application/vnd.openxmlformats-package.relationships+xml"/>
  <Override PartName="/ppt/slides/_rels/slide381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80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81.xml.rels" ContentType="application/vnd.openxmlformats-package.relationships+xml"/>
  <Override PartName="/ppt/slides/_rels/slide104.xml.rels" ContentType="application/vnd.openxmlformats-package.relationships+xml"/>
  <Override PartName="/ppt/slides/_rels/slide7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7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63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25.xml.rels" ContentType="application/vnd.openxmlformats-package.relationships+xml"/>
  <Override PartName="/ppt/slides/_rels/slide330.xml.rels" ContentType="application/vnd.openxmlformats-package.relationships+xml"/>
  <Override PartName="/ppt/slides/_rels/slide314.xml.rels" ContentType="application/vnd.openxmlformats-package.relationships+xml"/>
  <Override PartName="/ppt/slides/_rels/slide18.xml.rels" ContentType="application/vnd.openxmlformats-package.relationships+xml"/>
  <Override PartName="/ppt/slides/_rels/slide309.xml.rels" ContentType="application/vnd.openxmlformats-package.relationships+xml"/>
  <Override PartName="/ppt/slides/_rels/slide288.xml.rels" ContentType="application/vnd.openxmlformats-package.relationships+xml"/>
  <Override PartName="/ppt/slides/_rels/slide383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15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289.xml.rels" ContentType="application/vnd.openxmlformats-package.relationships+xml"/>
  <Override PartName="/ppt/slides/_rels/slide324.xml.rels" ContentType="application/vnd.openxmlformats-package.relationships+xml"/>
  <Override PartName="/ppt/slides/_rels/slide199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5.xml.rels" ContentType="application/vnd.openxmlformats-package.relationships+xml"/>
  <Override PartName="/ppt/slides/_rels/slide89.xml.rels" ContentType="application/vnd.openxmlformats-package.relationships+xml"/>
  <Override PartName="/ppt/slides/_rels/slide385.xml.rels" ContentType="application/vnd.openxmlformats-package.relationships+xml"/>
  <Override PartName="/ppt/slides/_rels/slide390.xml.rels" ContentType="application/vnd.openxmlformats-package.relationships+xml"/>
  <Override PartName="/ppt/slides/_rels/slide94.xml.rels" ContentType="application/vnd.openxmlformats-package.relationships+xml"/>
  <Override PartName="/ppt/slides/_rels/slide264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399.xml.rels" ContentType="application/vnd.openxmlformats-package.relationships+xml"/>
  <Override PartName="/ppt/slides/_rels/slide59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278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97.xml.rels" ContentType="application/vnd.openxmlformats-package.relationships+xml"/>
  <Override PartName="/ppt/slides/_rels/slide356.xml.rels" ContentType="application/vnd.openxmlformats-package.relationships+xml"/>
  <Override PartName="/ppt/slides/_rels/slide29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54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28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21.xml.rels" ContentType="application/vnd.openxmlformats-package.relationships+xml"/>
  <Override PartName="/ppt/slides/_rels/slide328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331.xml.rels" ContentType="application/vnd.openxmlformats-package.relationships+xml"/>
  <Override PartName="/ppt/slides/_rels/slide167.xml.rels" ContentType="application/vnd.openxmlformats-package.relationships+xml"/>
  <Override PartName="/ppt/slides/_rels/slide224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236.xml.rels" ContentType="application/vnd.openxmlformats-package.relationships+xml"/>
  <Override PartName="/ppt/slides/_rels/slide60.xml.rels" ContentType="application/vnd.openxmlformats-package.relationships+xml"/>
  <Override PartName="/ppt/slides/_rels/slide378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99.xml.rels" ContentType="application/vnd.openxmlformats-package.relationships+xml"/>
  <Override PartName="/ppt/slides/_rels/slide39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394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235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33.xml.rels" ContentType="application/vnd.openxmlformats-package.relationships+xml"/>
  <Override PartName="/ppt/slides/_rels/slide193.xml.rels" ContentType="application/vnd.openxmlformats-package.relationships+xml"/>
  <Override PartName="/ppt/slides/_rels/slide21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398.xml.rels" ContentType="application/vnd.openxmlformats-package.relationships+xml"/>
  <Override PartName="/ppt/slides/_rels/slide73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261.xml.rels" ContentType="application/vnd.openxmlformats-package.relationships+xml"/>
  <Override PartName="/ppt/slides/_rels/slide397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178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388.xml.rels" ContentType="application/vnd.openxmlformats-package.relationships+xml"/>
  <Override PartName="/ppt/slides/_rels/slide393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191.xml.rels" ContentType="application/vnd.openxmlformats-package.relationships+xml"/>
  <Override PartName="/ppt/slides/_rels/slide276.xml.rels" ContentType="application/vnd.openxmlformats-package.relationships+xml"/>
  <Override PartName="/ppt/slides/_rels/slide302.xml.rels" ContentType="application/vnd.openxmlformats-package.relationships+xml"/>
  <Override PartName="/ppt/slides/_rels/slide281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379.xml.rels" ContentType="application/vnd.openxmlformats-package.relationships+xml"/>
  <Override PartName="/ppt/slides/_rels/slide177.xml.rels" ContentType="application/vnd.openxmlformats-package.relationships+xml"/>
  <Override PartName="/ppt/slides/_rels/slide296.xml.rels" ContentType="application/vnd.openxmlformats-package.relationships+xml"/>
  <Override PartName="/ppt/slides/_rels/slide31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36.xml.rels" ContentType="application/vnd.openxmlformats-package.relationships+xml"/>
  <Override PartName="/ppt/slides/_rels/slide332.xml.rels" ContentType="application/vnd.openxmlformats-package.relationships+xml"/>
  <Override PartName="/ppt/slides/_rels/slide41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396.xml.rels" ContentType="application/vnd.openxmlformats-package.relationships+xml"/>
  <Override PartName="/ppt/slides/_rels/slide3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382.xml.rels" ContentType="application/vnd.openxmlformats-package.relationships+xml"/>
  <Override PartName="/ppt/slides/_rels/slide86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386.xml.rels" ContentType="application/vnd.openxmlformats-package.relationships+xml"/>
  <Override PartName="/ppt/slides/_rels/slide95.xml.rels" ContentType="application/vnd.openxmlformats-package.relationships+xml"/>
  <Override PartName="/ppt/slides/_rels/slide391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56.xml.rels" ContentType="application/vnd.openxmlformats-package.relationships+xml"/>
  <Override PartName="/ppt/slides/_rels/slide347.xml.rels" ContentType="application/vnd.openxmlformats-package.relationships+xml"/>
  <Override PartName="/ppt/slides/_rels/slide352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277.xml.rels" ContentType="application/vnd.openxmlformats-package.relationships+xml"/>
  <Override PartName="/ppt/slides/_rels/slide303.xml.rels" ContentType="application/vnd.openxmlformats-package.relationships+xml"/>
  <Override PartName="/ppt/slides/_rels/slide282.xml.rels" ContentType="application/vnd.openxmlformats-package.relationships+xml"/>
  <Override PartName="/ppt/slides/_rels/slide58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384.xml.rels" ContentType="application/vnd.openxmlformats-package.relationships+xml"/>
  <Override PartName="/ppt/slides/_rels/slide88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67.xml.rels" ContentType="application/vnd.openxmlformats-package.relationships+xml"/>
  <Override PartName="/ppt/slides/_rels/slide363.xml.rels" ContentType="application/vnd.openxmlformats-package.relationships+xml"/>
  <Override PartName="/ppt/slides/_rels/slide358.xml.rels" ContentType="application/vnd.openxmlformats-package.relationships+xml"/>
  <Override PartName="/ppt/slides/_rels/slide287.xml.rels" ContentType="application/vnd.openxmlformats-package.relationships+xml"/>
  <Override PartName="/ppt/slides/_rels/slide144.xml.rels" ContentType="application/vnd.openxmlformats-package.relationships+xml"/>
  <Override PartName="/ppt/slides/_rels/slide377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348.xml.rels" ContentType="application/vnd.openxmlformats-package.relationships+xml"/>
  <Override PartName="/ppt/slides/_rels/slide374.xml.rels" ContentType="application/vnd.openxmlformats-package.relationships+xml"/>
  <Override PartName="/ppt/slides/_rels/slide400.xml.rels" ContentType="application/vnd.openxmlformats-package.relationships+xml"/>
  <Override PartName="/ppt/slides/_rels/slide387.xml.rels" ContentType="application/vnd.openxmlformats-package.relationships+xml"/>
  <Override PartName="/ppt/slides/_rels/slide39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66.xml.rels" ContentType="application/vnd.openxmlformats-package.relationships+xml"/>
  <Override PartName="/ppt/slides/_rels/slide357.xml.rels" ContentType="application/vnd.openxmlformats-package.relationships+xml"/>
  <Override PartName="/ppt/slides/_rels/slide367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376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37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389.xml.rels" ContentType="application/vnd.openxmlformats-package.relationships+xml"/>
  <Override PartName="/ppt/slides/_rels/slide344.xml.rels" ContentType="application/vnd.openxmlformats-package.relationships+xml"/>
  <Override PartName="/ppt/slides/_rels/slide308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59.xml" ContentType="application/vnd.openxmlformats-officedocument.presentationml.slide+xml"/>
  <Override PartName="/ppt/slides/slide31.xml" ContentType="application/vnd.openxmlformats-officedocument.presentationml.slide+xml"/>
  <Override PartName="/ppt/slides/slide158.xml" ContentType="application/vnd.openxmlformats-officedocument.presentationml.slide+xml"/>
  <Override PartName="/ppt/slides/slide30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129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6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386.xml" ContentType="application/vnd.openxmlformats-officedocument.presentationml.slide+xml"/>
  <Override PartName="/ppt/slides/slide125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384.xml" ContentType="application/vnd.openxmlformats-officedocument.presentationml.slide+xml"/>
  <Override PartName="/ppt/slides/slide357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385.xml" ContentType="application/vnd.openxmlformats-officedocument.presentationml.slide+xml"/>
  <Override PartName="/ppt/slides/slide124.xml" ContentType="application/vnd.openxmlformats-officedocument.presentationml.slide+xml"/>
  <Override PartName="/ppt/slides/slide286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3.xml" ContentType="application/vnd.openxmlformats-officedocument.presentationml.slide+xml"/>
  <Override PartName="/ppt/slides/slide294.xml" ContentType="application/vnd.openxmlformats-officedocument.presentationml.slide+xml"/>
  <Override PartName="/ppt/slides/slide295.xml" ContentType="application/vnd.openxmlformats-officedocument.presentationml.slide+xml"/>
  <Override PartName="/ppt/slides/slide296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2.xml" ContentType="application/vnd.openxmlformats-officedocument.presentationml.slide+xml"/>
  <Override PartName="/ppt/slides/slide370.xml" ContentType="application/vnd.openxmlformats-officedocument.presentationml.slide+xml"/>
  <Override PartName="/ppt/slides/slide13.xml" ContentType="application/vnd.openxmlformats-officedocument.presentationml.slide+xml"/>
  <Override PartName="/ppt/slides/slide303.xml" ContentType="application/vnd.openxmlformats-officedocument.presentationml.slide+xml"/>
  <Override PartName="/ppt/slides/slide371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04.xml" ContentType="application/vnd.openxmlformats-officedocument.presentationml.slide+xml"/>
  <Override PartName="/ppt/slides/slide372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6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388.xml" ContentType="application/vnd.openxmlformats-officedocument.presentationml.slide+xml"/>
  <Override PartName="/ppt/slides/slide260.xml" ContentType="application/vnd.openxmlformats-officedocument.presentationml.slide+xml"/>
  <Override PartName="/ppt/slides/slide365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389.xml" ContentType="application/vnd.openxmlformats-officedocument.presentationml.slide+xml"/>
  <Override PartName="/ppt/slides/slide261.xml" ContentType="application/vnd.openxmlformats-officedocument.presentationml.slide+xml"/>
  <Override PartName="/ppt/slides/slide36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262.xml" ContentType="application/vnd.openxmlformats-officedocument.presentationml.slide+xml"/>
  <Override PartName="/ppt/slides/slide36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30.xml" ContentType="application/vnd.openxmlformats-officedocument.presentationml.slide+xml"/>
  <Override PartName="/ppt/slides/slide305.xml" ContentType="application/vnd.openxmlformats-officedocument.presentationml.slide+xml"/>
  <Override PartName="/ppt/slides/slide373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374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94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15.xml" ContentType="application/vnd.openxmlformats-officedocument.presentationml.slide+xml"/>
  <Override PartName="/ppt/slides/slide383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398.xml" ContentType="application/vnd.openxmlformats-officedocument.presentationml.slide+xml"/>
  <Override PartName="/ppt/slides/slide270.xml" ContentType="application/vnd.openxmlformats-officedocument.presentationml.slide+xml"/>
  <Override PartName="/ppt/slides/slide375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399.xml" ContentType="application/vnd.openxmlformats-officedocument.presentationml.slide+xml"/>
  <Override PartName="/ppt/slides/slide271.xml" ContentType="application/vnd.openxmlformats-officedocument.presentationml.slide+xml"/>
  <Override PartName="/ppt/slides/slide376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72.xml" ContentType="application/vnd.openxmlformats-officedocument.presentationml.slide+xml"/>
  <Override PartName="/ppt/slides/slide377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340.xml" ContentType="application/vnd.openxmlformats-officedocument.presentationml.slide+xml"/>
  <Override PartName="/ppt/slides/slide118.xml" ContentType="application/vnd.openxmlformats-officedocument.presentationml.slide+xml"/>
  <Override PartName="/ppt/slides/slide382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400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292.xml" ContentType="application/vnd.openxmlformats-officedocument.presentationml.slide+xml"/>
  <Override PartName="/ppt/slides/slide397.xml" ContentType="application/vnd.openxmlformats-officedocument.presentationml.slide+xml"/>
  <Override PartName="/ppt/slides/slide360.xml" ContentType="application/vnd.openxmlformats-officedocument.presentationml.slide+xml"/>
  <Override PartName="/ppt/slides/slide280.xml" ContentType="application/vnd.openxmlformats-officedocument.presentationml.slide+xml"/>
  <Override PartName="/ppt/slides/slide291.xml" ContentType="application/vnd.openxmlformats-officedocument.presentationml.slide+xml"/>
  <Override PartName="/ppt/slides/slide396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290.xml" ContentType="application/vnd.openxmlformats-officedocument.presentationml.slide+xml"/>
  <Override PartName="/ppt/slides/slide39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3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9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39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82.xml" ContentType="application/vnd.openxmlformats-officedocument.presentationml.slide+xml"/>
  <Override PartName="/ppt/slides/slide38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281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327.xml" ContentType="application/vnd.openxmlformats-officedocument.presentationml.slide+xml"/>
  <Override PartName="/ppt/slides/slide161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26.xml" ContentType="application/vnd.openxmlformats-officedocument.presentationml.slide+xml"/>
  <Override PartName="/ppt/slides/slide160.xml" ContentType="application/vnd.openxmlformats-officedocument.presentationml.slide+xml"/>
  <Override PartName="/ppt/slides/slide352.xml" ContentType="application/vnd.openxmlformats-officedocument.presentationml.slide+xml"/>
  <Override PartName="/ppt/slides/slide351.xml" ContentType="application/vnd.openxmlformats-officedocument.presentationml.slide+xml"/>
  <Override PartName="/ppt/slides/slide345.xml" ContentType="application/vnd.openxmlformats-officedocument.presentationml.slide+xml"/>
  <Override PartName="/ppt/slides/slide344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42.xml" ContentType="application/vnd.openxmlformats-officedocument.presentationml.slide+xml"/>
  <Override PartName="/ppt/slides/slide341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331.xml" ContentType="application/vnd.openxmlformats-officedocument.presentationml.slide+xml"/>
  <Override PartName="/ppt/slides/slide39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0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380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381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  <p:sldId id="455" r:id="rId204"/>
    <p:sldId id="456" r:id="rId205"/>
    <p:sldId id="457" r:id="rId206"/>
    <p:sldId id="458" r:id="rId207"/>
    <p:sldId id="459" r:id="rId208"/>
    <p:sldId id="460" r:id="rId209"/>
    <p:sldId id="461" r:id="rId210"/>
    <p:sldId id="462" r:id="rId211"/>
    <p:sldId id="463" r:id="rId212"/>
    <p:sldId id="464" r:id="rId213"/>
    <p:sldId id="465" r:id="rId214"/>
    <p:sldId id="466" r:id="rId215"/>
    <p:sldId id="467" r:id="rId216"/>
    <p:sldId id="468" r:id="rId217"/>
    <p:sldId id="469" r:id="rId218"/>
    <p:sldId id="470" r:id="rId219"/>
    <p:sldId id="471" r:id="rId220"/>
    <p:sldId id="472" r:id="rId221"/>
    <p:sldId id="473" r:id="rId222"/>
    <p:sldId id="474" r:id="rId223"/>
    <p:sldId id="475" r:id="rId224"/>
    <p:sldId id="476" r:id="rId225"/>
    <p:sldId id="477" r:id="rId226"/>
    <p:sldId id="478" r:id="rId227"/>
    <p:sldId id="479" r:id="rId228"/>
    <p:sldId id="480" r:id="rId229"/>
    <p:sldId id="481" r:id="rId230"/>
    <p:sldId id="482" r:id="rId231"/>
    <p:sldId id="483" r:id="rId232"/>
    <p:sldId id="484" r:id="rId233"/>
    <p:sldId id="485" r:id="rId234"/>
    <p:sldId id="486" r:id="rId235"/>
    <p:sldId id="487" r:id="rId236"/>
    <p:sldId id="488" r:id="rId237"/>
    <p:sldId id="489" r:id="rId238"/>
    <p:sldId id="490" r:id="rId239"/>
    <p:sldId id="491" r:id="rId240"/>
    <p:sldId id="492" r:id="rId241"/>
    <p:sldId id="493" r:id="rId242"/>
    <p:sldId id="494" r:id="rId243"/>
    <p:sldId id="495" r:id="rId244"/>
    <p:sldId id="496" r:id="rId245"/>
    <p:sldId id="497" r:id="rId246"/>
    <p:sldId id="498" r:id="rId247"/>
    <p:sldId id="499" r:id="rId248"/>
    <p:sldId id="500" r:id="rId249"/>
    <p:sldId id="501" r:id="rId250"/>
    <p:sldId id="502" r:id="rId251"/>
    <p:sldId id="503" r:id="rId252"/>
    <p:sldId id="504" r:id="rId253"/>
    <p:sldId id="505" r:id="rId254"/>
    <p:sldId id="506" r:id="rId255"/>
    <p:sldId id="507" r:id="rId256"/>
    <p:sldId id="508" r:id="rId257"/>
    <p:sldId id="509" r:id="rId258"/>
    <p:sldId id="510" r:id="rId259"/>
    <p:sldId id="511" r:id="rId260"/>
    <p:sldId id="512" r:id="rId261"/>
    <p:sldId id="513" r:id="rId262"/>
    <p:sldId id="514" r:id="rId263"/>
    <p:sldId id="515" r:id="rId264"/>
    <p:sldId id="516" r:id="rId265"/>
    <p:sldId id="517" r:id="rId266"/>
    <p:sldId id="518" r:id="rId267"/>
    <p:sldId id="519" r:id="rId268"/>
    <p:sldId id="520" r:id="rId269"/>
    <p:sldId id="521" r:id="rId270"/>
    <p:sldId id="522" r:id="rId271"/>
    <p:sldId id="523" r:id="rId272"/>
    <p:sldId id="524" r:id="rId273"/>
    <p:sldId id="525" r:id="rId274"/>
    <p:sldId id="526" r:id="rId275"/>
    <p:sldId id="527" r:id="rId276"/>
    <p:sldId id="528" r:id="rId277"/>
    <p:sldId id="529" r:id="rId278"/>
    <p:sldId id="530" r:id="rId279"/>
    <p:sldId id="531" r:id="rId280"/>
    <p:sldId id="532" r:id="rId281"/>
    <p:sldId id="533" r:id="rId282"/>
    <p:sldId id="534" r:id="rId283"/>
    <p:sldId id="535" r:id="rId284"/>
    <p:sldId id="536" r:id="rId285"/>
    <p:sldId id="537" r:id="rId286"/>
    <p:sldId id="538" r:id="rId287"/>
    <p:sldId id="539" r:id="rId288"/>
    <p:sldId id="540" r:id="rId289"/>
    <p:sldId id="541" r:id="rId290"/>
    <p:sldId id="542" r:id="rId291"/>
    <p:sldId id="543" r:id="rId292"/>
    <p:sldId id="544" r:id="rId293"/>
    <p:sldId id="545" r:id="rId294"/>
    <p:sldId id="546" r:id="rId295"/>
    <p:sldId id="547" r:id="rId296"/>
    <p:sldId id="548" r:id="rId297"/>
    <p:sldId id="549" r:id="rId298"/>
    <p:sldId id="550" r:id="rId299"/>
    <p:sldId id="551" r:id="rId300"/>
    <p:sldId id="552" r:id="rId301"/>
    <p:sldId id="553" r:id="rId302"/>
    <p:sldId id="554" r:id="rId303"/>
    <p:sldId id="555" r:id="rId304"/>
    <p:sldId id="556" r:id="rId305"/>
    <p:sldId id="557" r:id="rId306"/>
    <p:sldId id="558" r:id="rId307"/>
    <p:sldId id="559" r:id="rId308"/>
    <p:sldId id="560" r:id="rId309"/>
    <p:sldId id="561" r:id="rId310"/>
    <p:sldId id="562" r:id="rId311"/>
    <p:sldId id="563" r:id="rId312"/>
    <p:sldId id="564" r:id="rId313"/>
    <p:sldId id="565" r:id="rId314"/>
    <p:sldId id="566" r:id="rId315"/>
    <p:sldId id="567" r:id="rId316"/>
    <p:sldId id="568" r:id="rId317"/>
    <p:sldId id="569" r:id="rId318"/>
    <p:sldId id="570" r:id="rId319"/>
    <p:sldId id="571" r:id="rId320"/>
    <p:sldId id="572" r:id="rId321"/>
    <p:sldId id="573" r:id="rId322"/>
    <p:sldId id="574" r:id="rId323"/>
    <p:sldId id="575" r:id="rId324"/>
    <p:sldId id="576" r:id="rId325"/>
    <p:sldId id="577" r:id="rId326"/>
    <p:sldId id="578" r:id="rId327"/>
    <p:sldId id="579" r:id="rId328"/>
    <p:sldId id="580" r:id="rId329"/>
    <p:sldId id="581" r:id="rId330"/>
    <p:sldId id="582" r:id="rId331"/>
    <p:sldId id="583" r:id="rId332"/>
    <p:sldId id="584" r:id="rId333"/>
    <p:sldId id="585" r:id="rId334"/>
    <p:sldId id="586" r:id="rId335"/>
    <p:sldId id="587" r:id="rId336"/>
    <p:sldId id="588" r:id="rId337"/>
    <p:sldId id="589" r:id="rId338"/>
    <p:sldId id="590" r:id="rId339"/>
    <p:sldId id="591" r:id="rId340"/>
    <p:sldId id="592" r:id="rId341"/>
    <p:sldId id="593" r:id="rId342"/>
    <p:sldId id="594" r:id="rId343"/>
    <p:sldId id="595" r:id="rId344"/>
    <p:sldId id="596" r:id="rId345"/>
    <p:sldId id="597" r:id="rId346"/>
    <p:sldId id="598" r:id="rId347"/>
    <p:sldId id="599" r:id="rId348"/>
    <p:sldId id="600" r:id="rId349"/>
    <p:sldId id="601" r:id="rId350"/>
    <p:sldId id="602" r:id="rId351"/>
    <p:sldId id="603" r:id="rId352"/>
    <p:sldId id="604" r:id="rId353"/>
    <p:sldId id="605" r:id="rId354"/>
    <p:sldId id="606" r:id="rId355"/>
    <p:sldId id="607" r:id="rId356"/>
    <p:sldId id="608" r:id="rId357"/>
    <p:sldId id="609" r:id="rId358"/>
    <p:sldId id="610" r:id="rId359"/>
    <p:sldId id="611" r:id="rId360"/>
    <p:sldId id="612" r:id="rId361"/>
    <p:sldId id="613" r:id="rId362"/>
    <p:sldId id="614" r:id="rId363"/>
    <p:sldId id="615" r:id="rId364"/>
    <p:sldId id="616" r:id="rId365"/>
    <p:sldId id="617" r:id="rId366"/>
    <p:sldId id="618" r:id="rId367"/>
    <p:sldId id="619" r:id="rId368"/>
    <p:sldId id="620" r:id="rId369"/>
    <p:sldId id="621" r:id="rId370"/>
    <p:sldId id="622" r:id="rId371"/>
    <p:sldId id="623" r:id="rId372"/>
    <p:sldId id="624" r:id="rId373"/>
    <p:sldId id="625" r:id="rId374"/>
    <p:sldId id="626" r:id="rId375"/>
    <p:sldId id="627" r:id="rId376"/>
    <p:sldId id="628" r:id="rId377"/>
    <p:sldId id="629" r:id="rId378"/>
    <p:sldId id="630" r:id="rId379"/>
    <p:sldId id="631" r:id="rId380"/>
    <p:sldId id="632" r:id="rId381"/>
    <p:sldId id="633" r:id="rId382"/>
    <p:sldId id="634" r:id="rId383"/>
    <p:sldId id="635" r:id="rId384"/>
    <p:sldId id="636" r:id="rId385"/>
    <p:sldId id="637" r:id="rId386"/>
    <p:sldId id="638" r:id="rId387"/>
    <p:sldId id="639" r:id="rId388"/>
    <p:sldId id="640" r:id="rId389"/>
    <p:sldId id="641" r:id="rId390"/>
    <p:sldId id="642" r:id="rId391"/>
    <p:sldId id="643" r:id="rId392"/>
    <p:sldId id="644" r:id="rId393"/>
    <p:sldId id="645" r:id="rId394"/>
    <p:sldId id="646" r:id="rId395"/>
    <p:sldId id="647" r:id="rId396"/>
    <p:sldId id="648" r:id="rId397"/>
    <p:sldId id="649" r:id="rId398"/>
    <p:sldId id="650" r:id="rId399"/>
    <p:sldId id="651" r:id="rId400"/>
    <p:sldId id="652" r:id="rId401"/>
    <p:sldId id="653" r:id="rId402"/>
    <p:sldId id="654" r:id="rId403"/>
    <p:sldId id="655" r:id="rId4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slide" Target="slides/slide200.xml"/><Relationship Id="rId205" Type="http://schemas.openxmlformats.org/officeDocument/2006/relationships/slide" Target="slides/slide201.xml"/><Relationship Id="rId206" Type="http://schemas.openxmlformats.org/officeDocument/2006/relationships/slide" Target="slides/slide202.xml"/><Relationship Id="rId207" Type="http://schemas.openxmlformats.org/officeDocument/2006/relationships/slide" Target="slides/slide203.xml"/><Relationship Id="rId208" Type="http://schemas.openxmlformats.org/officeDocument/2006/relationships/slide" Target="slides/slide204.xml"/><Relationship Id="rId209" Type="http://schemas.openxmlformats.org/officeDocument/2006/relationships/slide" Target="slides/slide205.xml"/><Relationship Id="rId210" Type="http://schemas.openxmlformats.org/officeDocument/2006/relationships/slide" Target="slides/slide206.xml"/><Relationship Id="rId211" Type="http://schemas.openxmlformats.org/officeDocument/2006/relationships/slide" Target="slides/slide207.xml"/><Relationship Id="rId212" Type="http://schemas.openxmlformats.org/officeDocument/2006/relationships/slide" Target="slides/slide208.xml"/><Relationship Id="rId213" Type="http://schemas.openxmlformats.org/officeDocument/2006/relationships/slide" Target="slides/slide209.xml"/><Relationship Id="rId214" Type="http://schemas.openxmlformats.org/officeDocument/2006/relationships/slide" Target="slides/slide210.xml"/><Relationship Id="rId215" Type="http://schemas.openxmlformats.org/officeDocument/2006/relationships/slide" Target="slides/slide211.xml"/><Relationship Id="rId216" Type="http://schemas.openxmlformats.org/officeDocument/2006/relationships/slide" Target="slides/slide212.xml"/><Relationship Id="rId217" Type="http://schemas.openxmlformats.org/officeDocument/2006/relationships/slide" Target="slides/slide213.xml"/><Relationship Id="rId218" Type="http://schemas.openxmlformats.org/officeDocument/2006/relationships/slide" Target="slides/slide214.xml"/><Relationship Id="rId219" Type="http://schemas.openxmlformats.org/officeDocument/2006/relationships/slide" Target="slides/slide215.xml"/><Relationship Id="rId220" Type="http://schemas.openxmlformats.org/officeDocument/2006/relationships/slide" Target="slides/slide216.xml"/><Relationship Id="rId221" Type="http://schemas.openxmlformats.org/officeDocument/2006/relationships/slide" Target="slides/slide217.xml"/><Relationship Id="rId222" Type="http://schemas.openxmlformats.org/officeDocument/2006/relationships/slide" Target="slides/slide218.xml"/><Relationship Id="rId223" Type="http://schemas.openxmlformats.org/officeDocument/2006/relationships/slide" Target="slides/slide219.xml"/><Relationship Id="rId224" Type="http://schemas.openxmlformats.org/officeDocument/2006/relationships/slide" Target="slides/slide220.xml"/><Relationship Id="rId225" Type="http://schemas.openxmlformats.org/officeDocument/2006/relationships/slide" Target="slides/slide221.xml"/><Relationship Id="rId226" Type="http://schemas.openxmlformats.org/officeDocument/2006/relationships/slide" Target="slides/slide222.xml"/><Relationship Id="rId227" Type="http://schemas.openxmlformats.org/officeDocument/2006/relationships/slide" Target="slides/slide223.xml"/><Relationship Id="rId228" Type="http://schemas.openxmlformats.org/officeDocument/2006/relationships/slide" Target="slides/slide224.xml"/><Relationship Id="rId229" Type="http://schemas.openxmlformats.org/officeDocument/2006/relationships/slide" Target="slides/slide225.xml"/><Relationship Id="rId230" Type="http://schemas.openxmlformats.org/officeDocument/2006/relationships/slide" Target="slides/slide226.xml"/><Relationship Id="rId231" Type="http://schemas.openxmlformats.org/officeDocument/2006/relationships/slide" Target="slides/slide227.xml"/><Relationship Id="rId232" Type="http://schemas.openxmlformats.org/officeDocument/2006/relationships/slide" Target="slides/slide228.xml"/><Relationship Id="rId233" Type="http://schemas.openxmlformats.org/officeDocument/2006/relationships/slide" Target="slides/slide229.xml"/><Relationship Id="rId234" Type="http://schemas.openxmlformats.org/officeDocument/2006/relationships/slide" Target="slides/slide230.xml"/><Relationship Id="rId235" Type="http://schemas.openxmlformats.org/officeDocument/2006/relationships/slide" Target="slides/slide231.xml"/><Relationship Id="rId236" Type="http://schemas.openxmlformats.org/officeDocument/2006/relationships/slide" Target="slides/slide232.xml"/><Relationship Id="rId237" Type="http://schemas.openxmlformats.org/officeDocument/2006/relationships/slide" Target="slides/slide233.xml"/><Relationship Id="rId238" Type="http://schemas.openxmlformats.org/officeDocument/2006/relationships/slide" Target="slides/slide234.xml"/><Relationship Id="rId239" Type="http://schemas.openxmlformats.org/officeDocument/2006/relationships/slide" Target="slides/slide235.xml"/><Relationship Id="rId240" Type="http://schemas.openxmlformats.org/officeDocument/2006/relationships/slide" Target="slides/slide236.xml"/><Relationship Id="rId241" Type="http://schemas.openxmlformats.org/officeDocument/2006/relationships/slide" Target="slides/slide237.xml"/><Relationship Id="rId242" Type="http://schemas.openxmlformats.org/officeDocument/2006/relationships/slide" Target="slides/slide238.xml"/><Relationship Id="rId243" Type="http://schemas.openxmlformats.org/officeDocument/2006/relationships/slide" Target="slides/slide239.xml"/><Relationship Id="rId244" Type="http://schemas.openxmlformats.org/officeDocument/2006/relationships/slide" Target="slides/slide240.xml"/><Relationship Id="rId245" Type="http://schemas.openxmlformats.org/officeDocument/2006/relationships/slide" Target="slides/slide241.xml"/><Relationship Id="rId246" Type="http://schemas.openxmlformats.org/officeDocument/2006/relationships/slide" Target="slides/slide242.xml"/><Relationship Id="rId247" Type="http://schemas.openxmlformats.org/officeDocument/2006/relationships/slide" Target="slides/slide243.xml"/><Relationship Id="rId248" Type="http://schemas.openxmlformats.org/officeDocument/2006/relationships/slide" Target="slides/slide244.xml"/><Relationship Id="rId249" Type="http://schemas.openxmlformats.org/officeDocument/2006/relationships/slide" Target="slides/slide245.xml"/><Relationship Id="rId250" Type="http://schemas.openxmlformats.org/officeDocument/2006/relationships/slide" Target="slides/slide246.xml"/><Relationship Id="rId251" Type="http://schemas.openxmlformats.org/officeDocument/2006/relationships/slide" Target="slides/slide247.xml"/><Relationship Id="rId252" Type="http://schemas.openxmlformats.org/officeDocument/2006/relationships/slide" Target="slides/slide248.xml"/><Relationship Id="rId253" Type="http://schemas.openxmlformats.org/officeDocument/2006/relationships/slide" Target="slides/slide249.xml"/><Relationship Id="rId254" Type="http://schemas.openxmlformats.org/officeDocument/2006/relationships/slide" Target="slides/slide250.xml"/><Relationship Id="rId255" Type="http://schemas.openxmlformats.org/officeDocument/2006/relationships/slide" Target="slides/slide251.xml"/><Relationship Id="rId256" Type="http://schemas.openxmlformats.org/officeDocument/2006/relationships/slide" Target="slides/slide252.xml"/><Relationship Id="rId257" Type="http://schemas.openxmlformats.org/officeDocument/2006/relationships/slide" Target="slides/slide253.xml"/><Relationship Id="rId258" Type="http://schemas.openxmlformats.org/officeDocument/2006/relationships/slide" Target="slides/slide254.xml"/><Relationship Id="rId259" Type="http://schemas.openxmlformats.org/officeDocument/2006/relationships/slide" Target="slides/slide255.xml"/><Relationship Id="rId260" Type="http://schemas.openxmlformats.org/officeDocument/2006/relationships/slide" Target="slides/slide256.xml"/><Relationship Id="rId261" Type="http://schemas.openxmlformats.org/officeDocument/2006/relationships/slide" Target="slides/slide257.xml"/><Relationship Id="rId262" Type="http://schemas.openxmlformats.org/officeDocument/2006/relationships/slide" Target="slides/slide258.xml"/><Relationship Id="rId263" Type="http://schemas.openxmlformats.org/officeDocument/2006/relationships/slide" Target="slides/slide259.xml"/><Relationship Id="rId264" Type="http://schemas.openxmlformats.org/officeDocument/2006/relationships/slide" Target="slides/slide260.xml"/><Relationship Id="rId265" Type="http://schemas.openxmlformats.org/officeDocument/2006/relationships/slide" Target="slides/slide261.xml"/><Relationship Id="rId266" Type="http://schemas.openxmlformats.org/officeDocument/2006/relationships/slide" Target="slides/slide262.xml"/><Relationship Id="rId267" Type="http://schemas.openxmlformats.org/officeDocument/2006/relationships/slide" Target="slides/slide263.xml"/><Relationship Id="rId268" Type="http://schemas.openxmlformats.org/officeDocument/2006/relationships/slide" Target="slides/slide264.xml"/><Relationship Id="rId269" Type="http://schemas.openxmlformats.org/officeDocument/2006/relationships/slide" Target="slides/slide265.xml"/><Relationship Id="rId270" Type="http://schemas.openxmlformats.org/officeDocument/2006/relationships/slide" Target="slides/slide266.xml"/><Relationship Id="rId271" Type="http://schemas.openxmlformats.org/officeDocument/2006/relationships/slide" Target="slides/slide267.xml"/><Relationship Id="rId272" Type="http://schemas.openxmlformats.org/officeDocument/2006/relationships/slide" Target="slides/slide268.xml"/><Relationship Id="rId273" Type="http://schemas.openxmlformats.org/officeDocument/2006/relationships/slide" Target="slides/slide269.xml"/><Relationship Id="rId274" Type="http://schemas.openxmlformats.org/officeDocument/2006/relationships/slide" Target="slides/slide270.xml"/><Relationship Id="rId275" Type="http://schemas.openxmlformats.org/officeDocument/2006/relationships/slide" Target="slides/slide271.xml"/><Relationship Id="rId276" Type="http://schemas.openxmlformats.org/officeDocument/2006/relationships/slide" Target="slides/slide272.xml"/><Relationship Id="rId277" Type="http://schemas.openxmlformats.org/officeDocument/2006/relationships/slide" Target="slides/slide273.xml"/><Relationship Id="rId278" Type="http://schemas.openxmlformats.org/officeDocument/2006/relationships/slide" Target="slides/slide274.xml"/><Relationship Id="rId279" Type="http://schemas.openxmlformats.org/officeDocument/2006/relationships/slide" Target="slides/slide275.xml"/><Relationship Id="rId280" Type="http://schemas.openxmlformats.org/officeDocument/2006/relationships/slide" Target="slides/slide276.xml"/><Relationship Id="rId281" Type="http://schemas.openxmlformats.org/officeDocument/2006/relationships/slide" Target="slides/slide277.xml"/><Relationship Id="rId282" Type="http://schemas.openxmlformats.org/officeDocument/2006/relationships/slide" Target="slides/slide278.xml"/><Relationship Id="rId283" Type="http://schemas.openxmlformats.org/officeDocument/2006/relationships/slide" Target="slides/slide279.xml"/><Relationship Id="rId284" Type="http://schemas.openxmlformats.org/officeDocument/2006/relationships/slide" Target="slides/slide280.xml"/><Relationship Id="rId285" Type="http://schemas.openxmlformats.org/officeDocument/2006/relationships/slide" Target="slides/slide281.xml"/><Relationship Id="rId286" Type="http://schemas.openxmlformats.org/officeDocument/2006/relationships/slide" Target="slides/slide282.xml"/><Relationship Id="rId287" Type="http://schemas.openxmlformats.org/officeDocument/2006/relationships/slide" Target="slides/slide283.xml"/><Relationship Id="rId288" Type="http://schemas.openxmlformats.org/officeDocument/2006/relationships/slide" Target="slides/slide284.xml"/><Relationship Id="rId289" Type="http://schemas.openxmlformats.org/officeDocument/2006/relationships/slide" Target="slides/slide285.xml"/><Relationship Id="rId290" Type="http://schemas.openxmlformats.org/officeDocument/2006/relationships/slide" Target="slides/slide286.xml"/><Relationship Id="rId291" Type="http://schemas.openxmlformats.org/officeDocument/2006/relationships/slide" Target="slides/slide287.xml"/><Relationship Id="rId292" Type="http://schemas.openxmlformats.org/officeDocument/2006/relationships/slide" Target="slides/slide288.xml"/><Relationship Id="rId293" Type="http://schemas.openxmlformats.org/officeDocument/2006/relationships/slide" Target="slides/slide289.xml"/><Relationship Id="rId294" Type="http://schemas.openxmlformats.org/officeDocument/2006/relationships/slide" Target="slides/slide290.xml"/><Relationship Id="rId295" Type="http://schemas.openxmlformats.org/officeDocument/2006/relationships/slide" Target="slides/slide291.xml"/><Relationship Id="rId296" Type="http://schemas.openxmlformats.org/officeDocument/2006/relationships/slide" Target="slides/slide292.xml"/><Relationship Id="rId297" Type="http://schemas.openxmlformats.org/officeDocument/2006/relationships/slide" Target="slides/slide293.xml"/><Relationship Id="rId298" Type="http://schemas.openxmlformats.org/officeDocument/2006/relationships/slide" Target="slides/slide294.xml"/><Relationship Id="rId299" Type="http://schemas.openxmlformats.org/officeDocument/2006/relationships/slide" Target="slides/slide295.xml"/><Relationship Id="rId300" Type="http://schemas.openxmlformats.org/officeDocument/2006/relationships/slide" Target="slides/slide296.xml"/><Relationship Id="rId301" Type="http://schemas.openxmlformats.org/officeDocument/2006/relationships/slide" Target="slides/slide297.xml"/><Relationship Id="rId302" Type="http://schemas.openxmlformats.org/officeDocument/2006/relationships/slide" Target="slides/slide298.xml"/><Relationship Id="rId303" Type="http://schemas.openxmlformats.org/officeDocument/2006/relationships/slide" Target="slides/slide299.xml"/><Relationship Id="rId304" Type="http://schemas.openxmlformats.org/officeDocument/2006/relationships/slide" Target="slides/slide300.xml"/><Relationship Id="rId305" Type="http://schemas.openxmlformats.org/officeDocument/2006/relationships/slide" Target="slides/slide301.xml"/><Relationship Id="rId306" Type="http://schemas.openxmlformats.org/officeDocument/2006/relationships/slide" Target="slides/slide302.xml"/><Relationship Id="rId307" Type="http://schemas.openxmlformats.org/officeDocument/2006/relationships/slide" Target="slides/slide303.xml"/><Relationship Id="rId308" Type="http://schemas.openxmlformats.org/officeDocument/2006/relationships/slide" Target="slides/slide304.xml"/><Relationship Id="rId309" Type="http://schemas.openxmlformats.org/officeDocument/2006/relationships/slide" Target="slides/slide305.xml"/><Relationship Id="rId310" Type="http://schemas.openxmlformats.org/officeDocument/2006/relationships/slide" Target="slides/slide306.xml"/><Relationship Id="rId311" Type="http://schemas.openxmlformats.org/officeDocument/2006/relationships/slide" Target="slides/slide307.xml"/><Relationship Id="rId312" Type="http://schemas.openxmlformats.org/officeDocument/2006/relationships/slide" Target="slides/slide308.xml"/><Relationship Id="rId313" Type="http://schemas.openxmlformats.org/officeDocument/2006/relationships/slide" Target="slides/slide309.xml"/><Relationship Id="rId314" Type="http://schemas.openxmlformats.org/officeDocument/2006/relationships/slide" Target="slides/slide310.xml"/><Relationship Id="rId315" Type="http://schemas.openxmlformats.org/officeDocument/2006/relationships/slide" Target="slides/slide311.xml"/><Relationship Id="rId316" Type="http://schemas.openxmlformats.org/officeDocument/2006/relationships/slide" Target="slides/slide312.xml"/><Relationship Id="rId317" Type="http://schemas.openxmlformats.org/officeDocument/2006/relationships/slide" Target="slides/slide313.xml"/><Relationship Id="rId318" Type="http://schemas.openxmlformats.org/officeDocument/2006/relationships/slide" Target="slides/slide314.xml"/><Relationship Id="rId319" Type="http://schemas.openxmlformats.org/officeDocument/2006/relationships/slide" Target="slides/slide315.xml"/><Relationship Id="rId320" Type="http://schemas.openxmlformats.org/officeDocument/2006/relationships/slide" Target="slides/slide316.xml"/><Relationship Id="rId321" Type="http://schemas.openxmlformats.org/officeDocument/2006/relationships/slide" Target="slides/slide317.xml"/><Relationship Id="rId322" Type="http://schemas.openxmlformats.org/officeDocument/2006/relationships/slide" Target="slides/slide318.xml"/><Relationship Id="rId323" Type="http://schemas.openxmlformats.org/officeDocument/2006/relationships/slide" Target="slides/slide319.xml"/><Relationship Id="rId324" Type="http://schemas.openxmlformats.org/officeDocument/2006/relationships/slide" Target="slides/slide320.xml"/><Relationship Id="rId325" Type="http://schemas.openxmlformats.org/officeDocument/2006/relationships/slide" Target="slides/slide321.xml"/><Relationship Id="rId326" Type="http://schemas.openxmlformats.org/officeDocument/2006/relationships/slide" Target="slides/slide322.xml"/><Relationship Id="rId327" Type="http://schemas.openxmlformats.org/officeDocument/2006/relationships/slide" Target="slides/slide323.xml"/><Relationship Id="rId328" Type="http://schemas.openxmlformats.org/officeDocument/2006/relationships/slide" Target="slides/slide324.xml"/><Relationship Id="rId329" Type="http://schemas.openxmlformats.org/officeDocument/2006/relationships/slide" Target="slides/slide325.xml"/><Relationship Id="rId330" Type="http://schemas.openxmlformats.org/officeDocument/2006/relationships/slide" Target="slides/slide326.xml"/><Relationship Id="rId331" Type="http://schemas.openxmlformats.org/officeDocument/2006/relationships/slide" Target="slides/slide327.xml"/><Relationship Id="rId332" Type="http://schemas.openxmlformats.org/officeDocument/2006/relationships/slide" Target="slides/slide328.xml"/><Relationship Id="rId333" Type="http://schemas.openxmlformats.org/officeDocument/2006/relationships/slide" Target="slides/slide329.xml"/><Relationship Id="rId334" Type="http://schemas.openxmlformats.org/officeDocument/2006/relationships/slide" Target="slides/slide330.xml"/><Relationship Id="rId335" Type="http://schemas.openxmlformats.org/officeDocument/2006/relationships/slide" Target="slides/slide331.xml"/><Relationship Id="rId336" Type="http://schemas.openxmlformats.org/officeDocument/2006/relationships/slide" Target="slides/slide332.xml"/><Relationship Id="rId337" Type="http://schemas.openxmlformats.org/officeDocument/2006/relationships/slide" Target="slides/slide333.xml"/><Relationship Id="rId338" Type="http://schemas.openxmlformats.org/officeDocument/2006/relationships/slide" Target="slides/slide334.xml"/><Relationship Id="rId339" Type="http://schemas.openxmlformats.org/officeDocument/2006/relationships/slide" Target="slides/slide335.xml"/><Relationship Id="rId340" Type="http://schemas.openxmlformats.org/officeDocument/2006/relationships/slide" Target="slides/slide336.xml"/><Relationship Id="rId341" Type="http://schemas.openxmlformats.org/officeDocument/2006/relationships/slide" Target="slides/slide337.xml"/><Relationship Id="rId342" Type="http://schemas.openxmlformats.org/officeDocument/2006/relationships/slide" Target="slides/slide338.xml"/><Relationship Id="rId343" Type="http://schemas.openxmlformats.org/officeDocument/2006/relationships/slide" Target="slides/slide339.xml"/><Relationship Id="rId344" Type="http://schemas.openxmlformats.org/officeDocument/2006/relationships/slide" Target="slides/slide340.xml"/><Relationship Id="rId345" Type="http://schemas.openxmlformats.org/officeDocument/2006/relationships/slide" Target="slides/slide341.xml"/><Relationship Id="rId346" Type="http://schemas.openxmlformats.org/officeDocument/2006/relationships/slide" Target="slides/slide342.xml"/><Relationship Id="rId347" Type="http://schemas.openxmlformats.org/officeDocument/2006/relationships/slide" Target="slides/slide343.xml"/><Relationship Id="rId348" Type="http://schemas.openxmlformats.org/officeDocument/2006/relationships/slide" Target="slides/slide344.xml"/><Relationship Id="rId349" Type="http://schemas.openxmlformats.org/officeDocument/2006/relationships/slide" Target="slides/slide345.xml"/><Relationship Id="rId350" Type="http://schemas.openxmlformats.org/officeDocument/2006/relationships/slide" Target="slides/slide346.xml"/><Relationship Id="rId351" Type="http://schemas.openxmlformats.org/officeDocument/2006/relationships/slide" Target="slides/slide347.xml"/><Relationship Id="rId352" Type="http://schemas.openxmlformats.org/officeDocument/2006/relationships/slide" Target="slides/slide348.xml"/><Relationship Id="rId353" Type="http://schemas.openxmlformats.org/officeDocument/2006/relationships/slide" Target="slides/slide349.xml"/><Relationship Id="rId354" Type="http://schemas.openxmlformats.org/officeDocument/2006/relationships/slide" Target="slides/slide350.xml"/><Relationship Id="rId355" Type="http://schemas.openxmlformats.org/officeDocument/2006/relationships/slide" Target="slides/slide351.xml"/><Relationship Id="rId356" Type="http://schemas.openxmlformats.org/officeDocument/2006/relationships/slide" Target="slides/slide352.xml"/><Relationship Id="rId357" Type="http://schemas.openxmlformats.org/officeDocument/2006/relationships/slide" Target="slides/slide353.xml"/><Relationship Id="rId358" Type="http://schemas.openxmlformats.org/officeDocument/2006/relationships/slide" Target="slides/slide354.xml"/><Relationship Id="rId359" Type="http://schemas.openxmlformats.org/officeDocument/2006/relationships/slide" Target="slides/slide355.xml"/><Relationship Id="rId360" Type="http://schemas.openxmlformats.org/officeDocument/2006/relationships/slide" Target="slides/slide356.xml"/><Relationship Id="rId361" Type="http://schemas.openxmlformats.org/officeDocument/2006/relationships/slide" Target="slides/slide357.xml"/><Relationship Id="rId362" Type="http://schemas.openxmlformats.org/officeDocument/2006/relationships/slide" Target="slides/slide358.xml"/><Relationship Id="rId363" Type="http://schemas.openxmlformats.org/officeDocument/2006/relationships/slide" Target="slides/slide359.xml"/><Relationship Id="rId364" Type="http://schemas.openxmlformats.org/officeDocument/2006/relationships/slide" Target="slides/slide360.xml"/><Relationship Id="rId365" Type="http://schemas.openxmlformats.org/officeDocument/2006/relationships/slide" Target="slides/slide361.xml"/><Relationship Id="rId366" Type="http://schemas.openxmlformats.org/officeDocument/2006/relationships/slide" Target="slides/slide362.xml"/><Relationship Id="rId367" Type="http://schemas.openxmlformats.org/officeDocument/2006/relationships/slide" Target="slides/slide363.xml"/><Relationship Id="rId368" Type="http://schemas.openxmlformats.org/officeDocument/2006/relationships/slide" Target="slides/slide364.xml"/><Relationship Id="rId369" Type="http://schemas.openxmlformats.org/officeDocument/2006/relationships/slide" Target="slides/slide365.xml"/><Relationship Id="rId370" Type="http://schemas.openxmlformats.org/officeDocument/2006/relationships/slide" Target="slides/slide366.xml"/><Relationship Id="rId371" Type="http://schemas.openxmlformats.org/officeDocument/2006/relationships/slide" Target="slides/slide367.xml"/><Relationship Id="rId372" Type="http://schemas.openxmlformats.org/officeDocument/2006/relationships/slide" Target="slides/slide368.xml"/><Relationship Id="rId373" Type="http://schemas.openxmlformats.org/officeDocument/2006/relationships/slide" Target="slides/slide369.xml"/><Relationship Id="rId374" Type="http://schemas.openxmlformats.org/officeDocument/2006/relationships/slide" Target="slides/slide370.xml"/><Relationship Id="rId375" Type="http://schemas.openxmlformats.org/officeDocument/2006/relationships/slide" Target="slides/slide371.xml"/><Relationship Id="rId376" Type="http://schemas.openxmlformats.org/officeDocument/2006/relationships/slide" Target="slides/slide372.xml"/><Relationship Id="rId377" Type="http://schemas.openxmlformats.org/officeDocument/2006/relationships/slide" Target="slides/slide373.xml"/><Relationship Id="rId378" Type="http://schemas.openxmlformats.org/officeDocument/2006/relationships/slide" Target="slides/slide374.xml"/><Relationship Id="rId379" Type="http://schemas.openxmlformats.org/officeDocument/2006/relationships/slide" Target="slides/slide375.xml"/><Relationship Id="rId380" Type="http://schemas.openxmlformats.org/officeDocument/2006/relationships/slide" Target="slides/slide376.xml"/><Relationship Id="rId381" Type="http://schemas.openxmlformats.org/officeDocument/2006/relationships/slide" Target="slides/slide377.xml"/><Relationship Id="rId382" Type="http://schemas.openxmlformats.org/officeDocument/2006/relationships/slide" Target="slides/slide378.xml"/><Relationship Id="rId383" Type="http://schemas.openxmlformats.org/officeDocument/2006/relationships/slide" Target="slides/slide379.xml"/><Relationship Id="rId384" Type="http://schemas.openxmlformats.org/officeDocument/2006/relationships/slide" Target="slides/slide380.xml"/><Relationship Id="rId385" Type="http://schemas.openxmlformats.org/officeDocument/2006/relationships/slide" Target="slides/slide381.xml"/><Relationship Id="rId386" Type="http://schemas.openxmlformats.org/officeDocument/2006/relationships/slide" Target="slides/slide382.xml"/><Relationship Id="rId387" Type="http://schemas.openxmlformats.org/officeDocument/2006/relationships/slide" Target="slides/slide383.xml"/><Relationship Id="rId388" Type="http://schemas.openxmlformats.org/officeDocument/2006/relationships/slide" Target="slides/slide384.xml"/><Relationship Id="rId389" Type="http://schemas.openxmlformats.org/officeDocument/2006/relationships/slide" Target="slides/slide385.xml"/><Relationship Id="rId390" Type="http://schemas.openxmlformats.org/officeDocument/2006/relationships/slide" Target="slides/slide386.xml"/><Relationship Id="rId391" Type="http://schemas.openxmlformats.org/officeDocument/2006/relationships/slide" Target="slides/slide387.xml"/><Relationship Id="rId392" Type="http://schemas.openxmlformats.org/officeDocument/2006/relationships/slide" Target="slides/slide388.xml"/><Relationship Id="rId393" Type="http://schemas.openxmlformats.org/officeDocument/2006/relationships/slide" Target="slides/slide389.xml"/><Relationship Id="rId394" Type="http://schemas.openxmlformats.org/officeDocument/2006/relationships/slide" Target="slides/slide390.xml"/><Relationship Id="rId395" Type="http://schemas.openxmlformats.org/officeDocument/2006/relationships/slide" Target="slides/slide391.xml"/><Relationship Id="rId396" Type="http://schemas.openxmlformats.org/officeDocument/2006/relationships/slide" Target="slides/slide392.xml"/><Relationship Id="rId397" Type="http://schemas.openxmlformats.org/officeDocument/2006/relationships/slide" Target="slides/slide393.xml"/><Relationship Id="rId398" Type="http://schemas.openxmlformats.org/officeDocument/2006/relationships/slide" Target="slides/slide394.xml"/><Relationship Id="rId399" Type="http://schemas.openxmlformats.org/officeDocument/2006/relationships/slide" Target="slides/slide395.xml"/><Relationship Id="rId400" Type="http://schemas.openxmlformats.org/officeDocument/2006/relationships/slide" Target="slides/slide396.xml"/><Relationship Id="rId401" Type="http://schemas.openxmlformats.org/officeDocument/2006/relationships/slide" Target="slides/slide397.xml"/><Relationship Id="rId402" Type="http://schemas.openxmlformats.org/officeDocument/2006/relationships/slide" Target="slides/slide398.xml"/><Relationship Id="rId403" Type="http://schemas.openxmlformats.org/officeDocument/2006/relationships/slide" Target="slides/slide399.xml"/><Relationship Id="rId404" Type="http://schemas.openxmlformats.org/officeDocument/2006/relationships/slide" Target="slides/slide400.xml"/><Relationship Id="rId4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78A6-6AC9-4B25-AD0D-9F24FB1AF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07.xml.rels><?xml version="1.0" encoding="UTF-8"?>
<Relationships xmlns="http://schemas.openxmlformats.org/package/2006/relationships"><Relationship Id="rId1" Type="http://schemas.openxmlformats.org/officeDocument/2006/relationships/slide" Target="../slides/slide207.xml"/><Relationship Id="rId2" Type="http://schemas.openxmlformats.org/officeDocument/2006/relationships/notesMaster" Target="../notesMasters/notesMaster1.xml"/>
</Relationships>
</file>

<file path=ppt/notesSlides/_rels/notesSlide208.xml.rels><?xml version="1.0" encoding="UTF-8"?>
<Relationships xmlns="http://schemas.openxmlformats.org/package/2006/relationships"><Relationship Id="rId1" Type="http://schemas.openxmlformats.org/officeDocument/2006/relationships/slide" Target="../slides/slide208.xml"/><Relationship Id="rId2" Type="http://schemas.openxmlformats.org/officeDocument/2006/relationships/notesMaster" Target="../notesMasters/notesMaster1.xml"/>
</Relationships>
</file>

<file path=ppt/notesSlides/_rels/notesSlide209.xml.rels><?xml version="1.0" encoding="UTF-8"?>
<Relationships xmlns="http://schemas.openxmlformats.org/package/2006/relationships"><Relationship Id="rId1" Type="http://schemas.openxmlformats.org/officeDocument/2006/relationships/slide" Target="../slides/slide20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10.xml.rels><?xml version="1.0" encoding="UTF-8"?>
<Relationships xmlns="http://schemas.openxmlformats.org/package/2006/relationships"><Relationship Id="rId1" Type="http://schemas.openxmlformats.org/officeDocument/2006/relationships/slide" Target="../slides/slide210.xml"/><Relationship Id="rId2" Type="http://schemas.openxmlformats.org/officeDocument/2006/relationships/notesMaster" Target="../notesMasters/notesMaster1.xml"/>
</Relationships>
</file>

<file path=ppt/notesSlides/_rels/notesSlide211.xml.rels><?xml version="1.0" encoding="UTF-8"?>
<Relationships xmlns="http://schemas.openxmlformats.org/package/2006/relationships"><Relationship Id="rId1" Type="http://schemas.openxmlformats.org/officeDocument/2006/relationships/slide" Target="../slides/slide211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4.xml.rels><?xml version="1.0" encoding="UTF-8"?>
<Relationships xmlns="http://schemas.openxmlformats.org/package/2006/relationships"><Relationship Id="rId1" Type="http://schemas.openxmlformats.org/officeDocument/2006/relationships/slide" Target="../slides/slide214.xml"/><Relationship Id="rId2" Type="http://schemas.openxmlformats.org/officeDocument/2006/relationships/notesMaster" Target="../notesMasters/notesMaster1.xml"/>
</Relationships>
</file>

<file path=ppt/notesSlides/_rels/notesSlide215.xml.rels><?xml version="1.0" encoding="UTF-8"?>
<Relationships xmlns="http://schemas.openxmlformats.org/package/2006/relationships"><Relationship Id="rId1" Type="http://schemas.openxmlformats.org/officeDocument/2006/relationships/slide" Target="../slides/slide215.xml"/><Relationship Id="rId2" Type="http://schemas.openxmlformats.org/officeDocument/2006/relationships/notesMaster" Target="../notesMasters/notesMaster1.xml"/>
</Relationships>
</file>

<file path=ppt/notesSlides/_rels/notesSlide216.xml.rels><?xml version="1.0" encoding="UTF-8"?>
<Relationships xmlns="http://schemas.openxmlformats.org/package/2006/relationships"><Relationship Id="rId1" Type="http://schemas.openxmlformats.org/officeDocument/2006/relationships/slide" Target="../slides/slide216.xml"/><Relationship Id="rId2" Type="http://schemas.openxmlformats.org/officeDocument/2006/relationships/notesMaster" Target="../notesMasters/notesMaster1.xml"/>
</Relationships>
</file>

<file path=ppt/notesSlides/_rels/notesSlide217.xml.rels><?xml version="1.0" encoding="UTF-8"?>
<Relationships xmlns="http://schemas.openxmlformats.org/package/2006/relationships"><Relationship Id="rId1" Type="http://schemas.openxmlformats.org/officeDocument/2006/relationships/slide" Target="../slides/slide217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19.xml.rels><?xml version="1.0" encoding="UTF-8"?>
<Relationships xmlns="http://schemas.openxmlformats.org/package/2006/relationships"><Relationship Id="rId1" Type="http://schemas.openxmlformats.org/officeDocument/2006/relationships/slide" Target="../slides/slide2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1.xml.rels><?xml version="1.0" encoding="UTF-8"?>
<Relationships xmlns="http://schemas.openxmlformats.org/package/2006/relationships"><Relationship Id="rId1" Type="http://schemas.openxmlformats.org/officeDocument/2006/relationships/slide" Target="../slides/slide221.xml"/><Relationship Id="rId2" Type="http://schemas.openxmlformats.org/officeDocument/2006/relationships/notesMaster" Target="../notesMasters/notesMaster1.xml"/>
</Relationships>
</file>

<file path=ppt/notesSlides/_rels/notesSlide222.xml.rels><?xml version="1.0" encoding="UTF-8"?>
<Relationships xmlns="http://schemas.openxmlformats.org/package/2006/relationships"><Relationship Id="rId1" Type="http://schemas.openxmlformats.org/officeDocument/2006/relationships/slide" Target="../slides/slide222.xml"/><Relationship Id="rId2" Type="http://schemas.openxmlformats.org/officeDocument/2006/relationships/notesMaster" Target="../notesMasters/notesMaster1.xml"/>
</Relationships>
</file>

<file path=ppt/notesSlides/_rels/notesSlide223.xml.rels><?xml version="1.0" encoding="UTF-8"?>
<Relationships xmlns="http://schemas.openxmlformats.org/package/2006/relationships"><Relationship Id="rId1" Type="http://schemas.openxmlformats.org/officeDocument/2006/relationships/slide" Target="../slides/slide223.xml"/><Relationship Id="rId2" Type="http://schemas.openxmlformats.org/officeDocument/2006/relationships/notesMaster" Target="../notesMasters/notesMaster1.xml"/>
</Relationships>
</file>

<file path=ppt/notesSlides/_rels/notesSlide224.xml.rels><?xml version="1.0" encoding="UTF-8"?>
<Relationships xmlns="http://schemas.openxmlformats.org/package/2006/relationships"><Relationship Id="rId1" Type="http://schemas.openxmlformats.org/officeDocument/2006/relationships/slide" Target="../slides/slide224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32.xml.rels><?xml version="1.0" encoding="UTF-8"?>
<Relationships xmlns="http://schemas.openxmlformats.org/package/2006/relationships"><Relationship Id="rId1" Type="http://schemas.openxmlformats.org/officeDocument/2006/relationships/slide" Target="../slides/slide232.xml"/><Relationship Id="rId2" Type="http://schemas.openxmlformats.org/officeDocument/2006/relationships/notesMaster" Target="../notesMasters/notesMaster1.xml"/>
</Relationships>
</file>

<file path=ppt/notesSlides/_rels/notesSlide233.xml.rels><?xml version="1.0" encoding="UTF-8"?>
<Relationships xmlns="http://schemas.openxmlformats.org/package/2006/relationships"><Relationship Id="rId1" Type="http://schemas.openxmlformats.org/officeDocument/2006/relationships/slide" Target="../slides/slide23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37.xml.rels><?xml version="1.0" encoding="UTF-8"?>
<Relationships xmlns="http://schemas.openxmlformats.org/package/2006/relationships"><Relationship Id="rId1" Type="http://schemas.openxmlformats.org/officeDocument/2006/relationships/slide" Target="../slides/slide237.xml"/><Relationship Id="rId2" Type="http://schemas.openxmlformats.org/officeDocument/2006/relationships/notesMaster" Target="../notesMasters/notesMaster1.xml"/>
</Relationships>
</file>

<file path=ppt/notesSlides/_rels/notesSlide238.xml.rels><?xml version="1.0" encoding="UTF-8"?>
<Relationships xmlns="http://schemas.openxmlformats.org/package/2006/relationships"><Relationship Id="rId1" Type="http://schemas.openxmlformats.org/officeDocument/2006/relationships/slide" Target="../slides/slide238.xml"/><Relationship Id="rId2" Type="http://schemas.openxmlformats.org/officeDocument/2006/relationships/notesMaster" Target="../notesMasters/notesMaster1.xml"/>
</Relationships>
</file>

<file path=ppt/notesSlides/_rels/notesSlide239.xml.rels><?xml version="1.0" encoding="UTF-8"?>
<Relationships xmlns="http://schemas.openxmlformats.org/package/2006/relationships"><Relationship Id="rId1" Type="http://schemas.openxmlformats.org/officeDocument/2006/relationships/slide" Target="../slides/slide23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40.xml.rels><?xml version="1.0" encoding="UTF-8"?>
<Relationships xmlns="http://schemas.openxmlformats.org/package/2006/relationships"><Relationship Id="rId1" Type="http://schemas.openxmlformats.org/officeDocument/2006/relationships/slide" Target="../slides/slide240.xml"/><Relationship Id="rId2" Type="http://schemas.openxmlformats.org/officeDocument/2006/relationships/notesMaster" Target="../notesMasters/notesMaster1.xml"/>
</Relationships>
</file>

<file path=ppt/notesSlides/_rels/notesSlide241.xml.rels><?xml version="1.0" encoding="UTF-8"?>
<Relationships xmlns="http://schemas.openxmlformats.org/package/2006/relationships"><Relationship Id="rId1" Type="http://schemas.openxmlformats.org/officeDocument/2006/relationships/slide" Target="../slides/slide241.xml"/><Relationship Id="rId2" Type="http://schemas.openxmlformats.org/officeDocument/2006/relationships/notesMaster" Target="../notesMasters/notesMaster1.xml"/>
</Relationships>
</file>

<file path=ppt/notesSlides/_rels/notesSlide242.xml.rels><?xml version="1.0" encoding="UTF-8"?>
<Relationships xmlns="http://schemas.openxmlformats.org/package/2006/relationships"><Relationship Id="rId1" Type="http://schemas.openxmlformats.org/officeDocument/2006/relationships/slide" Target="../slides/slide242.xml"/><Relationship Id="rId2" Type="http://schemas.openxmlformats.org/officeDocument/2006/relationships/notesMaster" Target="../notesMasters/notesMaster1.xml"/>
</Relationships>
</file>

<file path=ppt/notesSlides/_rels/notesSlide243.xml.rels><?xml version="1.0" encoding="UTF-8"?>
<Relationships xmlns="http://schemas.openxmlformats.org/package/2006/relationships"><Relationship Id="rId1" Type="http://schemas.openxmlformats.org/officeDocument/2006/relationships/slide" Target="../slides/slide243.xml"/><Relationship Id="rId2" Type="http://schemas.openxmlformats.org/officeDocument/2006/relationships/notesMaster" Target="../notesMasters/notesMaster1.xml"/>
</Relationships>
</file>

<file path=ppt/notesSlides/_rels/notesSlide244.xml.rels><?xml version="1.0" encoding="UTF-8"?>
<Relationships xmlns="http://schemas.openxmlformats.org/package/2006/relationships"><Relationship Id="rId1" Type="http://schemas.openxmlformats.org/officeDocument/2006/relationships/slide" Target="../slides/slide244.xml"/><Relationship Id="rId2" Type="http://schemas.openxmlformats.org/officeDocument/2006/relationships/notesMaster" Target="../notesMasters/notesMaster1.xml"/>
</Relationships>
</file>

<file path=ppt/notesSlides/_rels/notesSlide245.xml.rels><?xml version="1.0" encoding="UTF-8"?>
<Relationships xmlns="http://schemas.openxmlformats.org/package/2006/relationships"><Relationship Id="rId1" Type="http://schemas.openxmlformats.org/officeDocument/2006/relationships/slide" Target="../slides/slide245.xml"/><Relationship Id="rId2" Type="http://schemas.openxmlformats.org/officeDocument/2006/relationships/notesMaster" Target="../notesMasters/notesMaster1.xml"/>
</Relationships>
</file>

<file path=ppt/notesSlides/_rels/notesSlide246.xml.rels><?xml version="1.0" encoding="UTF-8"?>
<Relationships xmlns="http://schemas.openxmlformats.org/package/2006/relationships"><Relationship Id="rId1" Type="http://schemas.openxmlformats.org/officeDocument/2006/relationships/slide" Target="../slides/slide246.xml"/><Relationship Id="rId2" Type="http://schemas.openxmlformats.org/officeDocument/2006/relationships/notesMaster" Target="../notesMasters/notesMaster1.xml"/>
</Relationships>
</file>

<file path=ppt/notesSlides/_rels/notesSlide247.xml.rels><?xml version="1.0" encoding="UTF-8"?>
<Relationships xmlns="http://schemas.openxmlformats.org/package/2006/relationships"><Relationship Id="rId1" Type="http://schemas.openxmlformats.org/officeDocument/2006/relationships/slide" Target="../slides/slide247.xml"/><Relationship Id="rId2" Type="http://schemas.openxmlformats.org/officeDocument/2006/relationships/notesMaster" Target="../notesMasters/notesMaster1.xml"/>
</Relationships>
</file>

<file path=ppt/notesSlides/_rels/notesSlide248.xml.rels><?xml version="1.0" encoding="UTF-8"?>
<Relationships xmlns="http://schemas.openxmlformats.org/package/2006/relationships"><Relationship Id="rId1" Type="http://schemas.openxmlformats.org/officeDocument/2006/relationships/slide" Target="../slides/slide248.xml"/><Relationship Id="rId2" Type="http://schemas.openxmlformats.org/officeDocument/2006/relationships/notesMaster" Target="../notesMasters/notesMaster1.xml"/>
</Relationships>
</file>

<file path=ppt/notesSlides/_rels/notesSlide249.xml.rels><?xml version="1.0" encoding="UTF-8"?>
<Relationships xmlns="http://schemas.openxmlformats.org/package/2006/relationships"><Relationship Id="rId1" Type="http://schemas.openxmlformats.org/officeDocument/2006/relationships/slide" Target="../slides/slide24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50.xml.rels><?xml version="1.0" encoding="UTF-8"?>
<Relationships xmlns="http://schemas.openxmlformats.org/package/2006/relationships"><Relationship Id="rId1" Type="http://schemas.openxmlformats.org/officeDocument/2006/relationships/slide" Target="../slides/slide250.xml"/><Relationship Id="rId2" Type="http://schemas.openxmlformats.org/officeDocument/2006/relationships/notesMaster" Target="../notesMasters/notesMaster1.xml"/>
</Relationships>
</file>

<file path=ppt/notesSlides/_rels/notesSlide251.xml.rels><?xml version="1.0" encoding="UTF-8"?>
<Relationships xmlns="http://schemas.openxmlformats.org/package/2006/relationships"><Relationship Id="rId1" Type="http://schemas.openxmlformats.org/officeDocument/2006/relationships/slide" Target="../slides/slide251.xml"/><Relationship Id="rId2" Type="http://schemas.openxmlformats.org/officeDocument/2006/relationships/notesMaster" Target="../notesMasters/notesMaster1.xml"/>
</Relationships>
</file>

<file path=ppt/notesSlides/_rels/notesSlide252.xml.rels><?xml version="1.0" encoding="UTF-8"?>
<Relationships xmlns="http://schemas.openxmlformats.org/package/2006/relationships"><Relationship Id="rId1" Type="http://schemas.openxmlformats.org/officeDocument/2006/relationships/slide" Target="../slides/slide252.xml"/><Relationship Id="rId2" Type="http://schemas.openxmlformats.org/officeDocument/2006/relationships/notesMaster" Target="../notesMasters/notesMaster1.xml"/>
</Relationships>
</file>

<file path=ppt/notesSlides/_rels/notesSlide253.xml.rels><?xml version="1.0" encoding="UTF-8"?>
<Relationships xmlns="http://schemas.openxmlformats.org/package/2006/relationships"><Relationship Id="rId1" Type="http://schemas.openxmlformats.org/officeDocument/2006/relationships/slide" Target="../slides/slide253.xml"/><Relationship Id="rId2" Type="http://schemas.openxmlformats.org/officeDocument/2006/relationships/notesMaster" Target="../notesMasters/notesMaster1.xml"/>
</Relationships>
</file>

<file path=ppt/notesSlides/_rels/notesSlide254.xml.rels><?xml version="1.0" encoding="UTF-8"?>
<Relationships xmlns="http://schemas.openxmlformats.org/package/2006/relationships"><Relationship Id="rId1" Type="http://schemas.openxmlformats.org/officeDocument/2006/relationships/slide" Target="../slides/slide254.xml"/><Relationship Id="rId2" Type="http://schemas.openxmlformats.org/officeDocument/2006/relationships/notesMaster" Target="../notesMasters/notesMaster1.xml"/>
</Relationships>
</file>

<file path=ppt/notesSlides/_rels/notesSlide255.xml.rels><?xml version="1.0" encoding="UTF-8"?>
<Relationships xmlns="http://schemas.openxmlformats.org/package/2006/relationships"><Relationship Id="rId1" Type="http://schemas.openxmlformats.org/officeDocument/2006/relationships/slide" Target="../slides/slide255.xml"/><Relationship Id="rId2" Type="http://schemas.openxmlformats.org/officeDocument/2006/relationships/notesMaster" Target="../notesMasters/notesMaster1.xml"/>
</Relationships>
</file>

<file path=ppt/notesSlides/_rels/notesSlide256.xml.rels><?xml version="1.0" encoding="UTF-8"?>
<Relationships xmlns="http://schemas.openxmlformats.org/package/2006/relationships"><Relationship Id="rId1" Type="http://schemas.openxmlformats.org/officeDocument/2006/relationships/slide" Target="../slides/slide256.xml"/><Relationship Id="rId2" Type="http://schemas.openxmlformats.org/officeDocument/2006/relationships/notesMaster" Target="../notesMasters/notesMaster1.xml"/>
</Relationships>
</file>

<file path=ppt/notesSlides/_rels/notesSlide257.xml.rels><?xml version="1.0" encoding="UTF-8"?>
<Relationships xmlns="http://schemas.openxmlformats.org/package/2006/relationships"><Relationship Id="rId1" Type="http://schemas.openxmlformats.org/officeDocument/2006/relationships/slide" Target="../slides/slide257.xml"/><Relationship Id="rId2" Type="http://schemas.openxmlformats.org/officeDocument/2006/relationships/notesMaster" Target="../notesMasters/notesMaster1.xml"/>
</Relationships>
</file>

<file path=ppt/notesSlides/_rels/notesSlide258.xml.rels><?xml version="1.0" encoding="UTF-8"?>
<Relationships xmlns="http://schemas.openxmlformats.org/package/2006/relationships"><Relationship Id="rId1" Type="http://schemas.openxmlformats.org/officeDocument/2006/relationships/slide" Target="../slides/slide258.xml"/><Relationship Id="rId2" Type="http://schemas.openxmlformats.org/officeDocument/2006/relationships/notesMaster" Target="../notesMasters/notesMaster1.xml"/>
</Relationships>
</file>

<file path=ppt/notesSlides/_rels/notesSlide259.xml.rels><?xml version="1.0" encoding="UTF-8"?>
<Relationships xmlns="http://schemas.openxmlformats.org/package/2006/relationships"><Relationship Id="rId1" Type="http://schemas.openxmlformats.org/officeDocument/2006/relationships/slide" Target="../slides/slide25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23.xml.rels><?xml version="1.0" encoding="UTF-8"?>
<Relationships xmlns="http://schemas.openxmlformats.org/package/2006/relationships"><Relationship Id="rId1" Type="http://schemas.openxmlformats.org/officeDocument/2006/relationships/slide" Target="../slides/slide323.xml"/><Relationship Id="rId2" Type="http://schemas.openxmlformats.org/officeDocument/2006/relationships/notesMaster" Target="../notesMasters/notesMaster1.xml"/>
</Relationships>
</file>

<file path=ppt/notesSlides/_rels/notesSlide324.xml.rels><?xml version="1.0" encoding="UTF-8"?>
<Relationships xmlns="http://schemas.openxmlformats.org/package/2006/relationships"><Relationship Id="rId1" Type="http://schemas.openxmlformats.org/officeDocument/2006/relationships/slide" Target="../slides/slide324.xml"/><Relationship Id="rId2" Type="http://schemas.openxmlformats.org/officeDocument/2006/relationships/notesMaster" Target="../notesMasters/notesMaster1.xml"/>
</Relationships>
</file>

<file path=ppt/notesSlides/_rels/notesSlide325.xml.rels><?xml version="1.0" encoding="UTF-8"?>
<Relationships xmlns="http://schemas.openxmlformats.org/package/2006/relationships"><Relationship Id="rId1" Type="http://schemas.openxmlformats.org/officeDocument/2006/relationships/slide" Target="../slides/slide325.xml"/><Relationship Id="rId2" Type="http://schemas.openxmlformats.org/officeDocument/2006/relationships/notesMaster" Target="../notesMasters/notesMaster1.xml"/>
</Relationships>
</file>

<file path=ppt/notesSlides/_rels/notesSlide326.xml.rels><?xml version="1.0" encoding="UTF-8"?>
<Relationships xmlns="http://schemas.openxmlformats.org/package/2006/relationships"><Relationship Id="rId1" Type="http://schemas.openxmlformats.org/officeDocument/2006/relationships/slide" Target="../slides/slide326.xml"/><Relationship Id="rId2" Type="http://schemas.openxmlformats.org/officeDocument/2006/relationships/notesMaster" Target="../notesMasters/notesMaster1.xml"/>
</Relationships>
</file>

<file path=ppt/notesSlides/_rels/notesSlide327.xml.rels><?xml version="1.0" encoding="UTF-8"?>
<Relationships xmlns="http://schemas.openxmlformats.org/package/2006/relationships"><Relationship Id="rId1" Type="http://schemas.openxmlformats.org/officeDocument/2006/relationships/slide" Target="../slides/slide327.xml"/><Relationship Id="rId2" Type="http://schemas.openxmlformats.org/officeDocument/2006/relationships/notesMaster" Target="../notesMasters/notesMaster1.xml"/>
</Relationships>
</file>

<file path=ppt/notesSlides/_rels/notesSlide328.xml.rels><?xml version="1.0" encoding="UTF-8"?>
<Relationships xmlns="http://schemas.openxmlformats.org/package/2006/relationships"><Relationship Id="rId1" Type="http://schemas.openxmlformats.org/officeDocument/2006/relationships/slide" Target="../slides/slide328.xml"/><Relationship Id="rId2" Type="http://schemas.openxmlformats.org/officeDocument/2006/relationships/notesMaster" Target="../notesMasters/notesMaster1.xml"/>
</Relationships>
</file>

<file path=ppt/notesSlides/_rels/notesSlide329.xml.rels><?xml version="1.0" encoding="UTF-8"?>
<Relationships xmlns="http://schemas.openxmlformats.org/package/2006/relationships"><Relationship Id="rId1" Type="http://schemas.openxmlformats.org/officeDocument/2006/relationships/slide" Target="../slides/slide3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30.xml.rels><?xml version="1.0" encoding="UTF-8"?>
<Relationships xmlns="http://schemas.openxmlformats.org/package/2006/relationships"><Relationship Id="rId1" Type="http://schemas.openxmlformats.org/officeDocument/2006/relationships/slide" Target="../slides/slide330.xml"/><Relationship Id="rId2" Type="http://schemas.openxmlformats.org/officeDocument/2006/relationships/notesMaster" Target="../notesMasters/notesMaster1.xml"/>
</Relationships>
</file>

<file path=ppt/notesSlides/_rels/notesSlide331.xml.rels><?xml version="1.0" encoding="UTF-8"?>
<Relationships xmlns="http://schemas.openxmlformats.org/package/2006/relationships"><Relationship Id="rId1" Type="http://schemas.openxmlformats.org/officeDocument/2006/relationships/slide" Target="../slides/slide331.xml"/><Relationship Id="rId2" Type="http://schemas.openxmlformats.org/officeDocument/2006/relationships/notesMaster" Target="../notesMasters/notesMaster1.xml"/>
</Relationships>
</file>

<file path=ppt/notesSlides/_rels/notesSlide332.xml.rels><?xml version="1.0" encoding="UTF-8"?>
<Relationships xmlns="http://schemas.openxmlformats.org/package/2006/relationships"><Relationship Id="rId1" Type="http://schemas.openxmlformats.org/officeDocument/2006/relationships/slide" Target="../slides/slide332.xml"/><Relationship Id="rId2" Type="http://schemas.openxmlformats.org/officeDocument/2006/relationships/notesMaster" Target="../notesMasters/notesMaster1.xml"/>
</Relationships>
</file>

<file path=ppt/notesSlides/_rels/notesSlide333.xml.rels><?xml version="1.0" encoding="UTF-8"?>
<Relationships xmlns="http://schemas.openxmlformats.org/package/2006/relationships"><Relationship Id="rId1" Type="http://schemas.openxmlformats.org/officeDocument/2006/relationships/slide" Target="../slides/slide333.xml"/><Relationship Id="rId2" Type="http://schemas.openxmlformats.org/officeDocument/2006/relationships/notesMaster" Target="../notesMasters/notesMaster1.xml"/>
</Relationships>
</file>

<file path=ppt/notesSlides/_rels/notesSlide334.xml.rels><?xml version="1.0" encoding="UTF-8"?>
<Relationships xmlns="http://schemas.openxmlformats.org/package/2006/relationships"><Relationship Id="rId1" Type="http://schemas.openxmlformats.org/officeDocument/2006/relationships/slide" Target="../slides/slide334.xml"/><Relationship Id="rId2" Type="http://schemas.openxmlformats.org/officeDocument/2006/relationships/notesMaster" Target="../notesMasters/notesMaster1.xml"/>
</Relationships>
</file>

<file path=ppt/notesSlides/_rels/notesSlide335.xml.rels><?xml version="1.0" encoding="UTF-8"?>
<Relationships xmlns="http://schemas.openxmlformats.org/package/2006/relationships"><Relationship Id="rId1" Type="http://schemas.openxmlformats.org/officeDocument/2006/relationships/slide" Target="../slides/slide335.xml"/><Relationship Id="rId2" Type="http://schemas.openxmlformats.org/officeDocument/2006/relationships/notesMaster" Target="../notesMasters/notesMaster1.xml"/>
</Relationships>
</file>

<file path=ppt/notesSlides/_rels/notesSlide336.xml.rels><?xml version="1.0" encoding="UTF-8"?>
<Relationships xmlns="http://schemas.openxmlformats.org/package/2006/relationships"><Relationship Id="rId1" Type="http://schemas.openxmlformats.org/officeDocument/2006/relationships/slide" Target="../slides/slide336.xml"/><Relationship Id="rId2" Type="http://schemas.openxmlformats.org/officeDocument/2006/relationships/notesMaster" Target="../notesMasters/notesMaster1.xml"/>
</Relationships>
</file>

<file path=ppt/notesSlides/_rels/notesSlide337.xml.rels><?xml version="1.0" encoding="UTF-8"?>
<Relationships xmlns="http://schemas.openxmlformats.org/package/2006/relationships"><Relationship Id="rId1" Type="http://schemas.openxmlformats.org/officeDocument/2006/relationships/slide" Target="../slides/slide337.xml"/><Relationship Id="rId2" Type="http://schemas.openxmlformats.org/officeDocument/2006/relationships/notesMaster" Target="../notesMasters/notesMaster1.xml"/>
</Relationships>
</file>

<file path=ppt/notesSlides/_rels/notesSlide338.xml.rels><?xml version="1.0" encoding="UTF-8"?>
<Relationships xmlns="http://schemas.openxmlformats.org/package/2006/relationships"><Relationship Id="rId1" Type="http://schemas.openxmlformats.org/officeDocument/2006/relationships/slide" Target="../slides/slide338.xml"/><Relationship Id="rId2" Type="http://schemas.openxmlformats.org/officeDocument/2006/relationships/notesMaster" Target="../notesMasters/notesMaster1.xml"/>
</Relationships>
</file>

<file path=ppt/notesSlides/_rels/notesSlide339.xml.rels><?xml version="1.0" encoding="UTF-8"?>
<Relationships xmlns="http://schemas.openxmlformats.org/package/2006/relationships"><Relationship Id="rId1" Type="http://schemas.openxmlformats.org/officeDocument/2006/relationships/slide" Target="../slides/slide33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40.xml.rels><?xml version="1.0" encoding="UTF-8"?>
<Relationships xmlns="http://schemas.openxmlformats.org/package/2006/relationships"><Relationship Id="rId1" Type="http://schemas.openxmlformats.org/officeDocument/2006/relationships/slide" Target="../slides/slide340.xml"/><Relationship Id="rId2" Type="http://schemas.openxmlformats.org/officeDocument/2006/relationships/notesMaster" Target="../notesMasters/notesMaster1.xml"/>
</Relationships>
</file>

<file path=ppt/notesSlides/_rels/notesSlide341.xml.rels><?xml version="1.0" encoding="UTF-8"?>
<Relationships xmlns="http://schemas.openxmlformats.org/package/2006/relationships"><Relationship Id="rId1" Type="http://schemas.openxmlformats.org/officeDocument/2006/relationships/slide" Target="../slides/slide341.xml"/><Relationship Id="rId2" Type="http://schemas.openxmlformats.org/officeDocument/2006/relationships/notesMaster" Target="../notesMasters/notesMaster1.xml"/>
</Relationships>
</file>

<file path=ppt/notesSlides/_rels/notesSlide342.xml.rels><?xml version="1.0" encoding="UTF-8"?>
<Relationships xmlns="http://schemas.openxmlformats.org/package/2006/relationships"><Relationship Id="rId1" Type="http://schemas.openxmlformats.org/officeDocument/2006/relationships/slide" Target="../slides/slide342.xml"/><Relationship Id="rId2" Type="http://schemas.openxmlformats.org/officeDocument/2006/relationships/notesMaster" Target="../notesMasters/notesMaster1.xml"/>
</Relationships>
</file>

<file path=ppt/notesSlides/_rels/notesSlide343.xml.rels><?xml version="1.0" encoding="UTF-8"?>
<Relationships xmlns="http://schemas.openxmlformats.org/package/2006/relationships"><Relationship Id="rId1" Type="http://schemas.openxmlformats.org/officeDocument/2006/relationships/slide" Target="../slides/slide343.xml"/><Relationship Id="rId2" Type="http://schemas.openxmlformats.org/officeDocument/2006/relationships/notesMaster" Target="../notesMasters/notesMaster1.xml"/>
</Relationships>
</file>

<file path=ppt/notesSlides/_rels/notesSlide344.xml.rels><?xml version="1.0" encoding="UTF-8"?>
<Relationships xmlns="http://schemas.openxmlformats.org/package/2006/relationships"><Relationship Id="rId1" Type="http://schemas.openxmlformats.org/officeDocument/2006/relationships/slide" Target="../slides/slide344.xml"/><Relationship Id="rId2" Type="http://schemas.openxmlformats.org/officeDocument/2006/relationships/notesMaster" Target="../notesMasters/notesMaster1.xml"/>
</Relationships>
</file>

<file path=ppt/notesSlides/_rels/notesSlide345.xml.rels><?xml version="1.0" encoding="UTF-8"?>
<Relationships xmlns="http://schemas.openxmlformats.org/package/2006/relationships"><Relationship Id="rId1" Type="http://schemas.openxmlformats.org/officeDocument/2006/relationships/slide" Target="../slides/slide345.xml"/><Relationship Id="rId2" Type="http://schemas.openxmlformats.org/officeDocument/2006/relationships/notesMaster" Target="../notesMasters/notesMaster1.xml"/>
</Relationships>
</file>

<file path=ppt/notesSlides/_rels/notesSlide346.xml.rels><?xml version="1.0" encoding="UTF-8"?>
<Relationships xmlns="http://schemas.openxmlformats.org/package/2006/relationships"><Relationship Id="rId1" Type="http://schemas.openxmlformats.org/officeDocument/2006/relationships/slide" Target="../slides/slide346.xml"/><Relationship Id="rId2" Type="http://schemas.openxmlformats.org/officeDocument/2006/relationships/notesMaster" Target="../notesMasters/notesMaster1.xml"/>
</Relationships>
</file>

<file path=ppt/notesSlides/_rels/notesSlide347.xml.rels><?xml version="1.0" encoding="UTF-8"?>
<Relationships xmlns="http://schemas.openxmlformats.org/package/2006/relationships"><Relationship Id="rId1" Type="http://schemas.openxmlformats.org/officeDocument/2006/relationships/slide" Target="../slides/slide347.xml"/><Relationship Id="rId2" Type="http://schemas.openxmlformats.org/officeDocument/2006/relationships/notesMaster" Target="../notesMasters/notesMaster1.xml"/>
</Relationships>
</file>

<file path=ppt/notesSlides/_rels/notesSlide348.xml.rels><?xml version="1.0" encoding="UTF-8"?>
<Relationships xmlns="http://schemas.openxmlformats.org/package/2006/relationships"><Relationship Id="rId1" Type="http://schemas.openxmlformats.org/officeDocument/2006/relationships/slide" Target="../slides/slide348.xml"/><Relationship Id="rId2" Type="http://schemas.openxmlformats.org/officeDocument/2006/relationships/notesMaster" Target="../notesMasters/notesMaster1.xml"/>
</Relationships>
</file>

<file path=ppt/notesSlides/_rels/notesSlide349.xml.rels><?xml version="1.0" encoding="UTF-8"?>
<Relationships xmlns="http://schemas.openxmlformats.org/package/2006/relationships"><Relationship Id="rId1" Type="http://schemas.openxmlformats.org/officeDocument/2006/relationships/slide" Target="../slides/slide34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50.xml.rels><?xml version="1.0" encoding="UTF-8"?>
<Relationships xmlns="http://schemas.openxmlformats.org/package/2006/relationships"><Relationship Id="rId1" Type="http://schemas.openxmlformats.org/officeDocument/2006/relationships/slide" Target="../slides/slide350.xml"/><Relationship Id="rId2" Type="http://schemas.openxmlformats.org/officeDocument/2006/relationships/notesMaster" Target="../notesMasters/notesMaster1.xml"/>
</Relationships>
</file>

<file path=ppt/notesSlides/_rels/notesSlide351.xml.rels><?xml version="1.0" encoding="UTF-8"?>
<Relationships xmlns="http://schemas.openxmlformats.org/package/2006/relationships"><Relationship Id="rId1" Type="http://schemas.openxmlformats.org/officeDocument/2006/relationships/slide" Target="../slides/slide351.xml"/><Relationship Id="rId2" Type="http://schemas.openxmlformats.org/officeDocument/2006/relationships/notesMaster" Target="../notesMasters/notesMaster1.xml"/>
</Relationships>
</file>

<file path=ppt/notesSlides/_rels/notesSlide352.xml.rels><?xml version="1.0" encoding="UTF-8"?>
<Relationships xmlns="http://schemas.openxmlformats.org/package/2006/relationships"><Relationship Id="rId1" Type="http://schemas.openxmlformats.org/officeDocument/2006/relationships/slide" Target="../slides/slide352.xml"/><Relationship Id="rId2" Type="http://schemas.openxmlformats.org/officeDocument/2006/relationships/notesMaster" Target="../notesMasters/notesMaster1.xml"/>
</Relationships>
</file>

<file path=ppt/notesSlides/_rels/notesSlide353.xml.rels><?xml version="1.0" encoding="UTF-8"?>
<Relationships xmlns="http://schemas.openxmlformats.org/package/2006/relationships"><Relationship Id="rId1" Type="http://schemas.openxmlformats.org/officeDocument/2006/relationships/slide" Target="../slides/slide353.xml"/><Relationship Id="rId2" Type="http://schemas.openxmlformats.org/officeDocument/2006/relationships/notesMaster" Target="../notesMasters/notesMaster1.xml"/>
</Relationships>
</file>

<file path=ppt/notesSlides/_rels/notesSlide354.xml.rels><?xml version="1.0" encoding="UTF-8"?>
<Relationships xmlns="http://schemas.openxmlformats.org/package/2006/relationships"><Relationship Id="rId1" Type="http://schemas.openxmlformats.org/officeDocument/2006/relationships/slide" Target="../slides/slide354.xml"/><Relationship Id="rId2" Type="http://schemas.openxmlformats.org/officeDocument/2006/relationships/notesMaster" Target="../notesMasters/notesMaster1.xml"/>
</Relationships>
</file>

<file path=ppt/notesSlides/_rels/notesSlide355.xml.rels><?xml version="1.0" encoding="UTF-8"?>
<Relationships xmlns="http://schemas.openxmlformats.org/package/2006/relationships"><Relationship Id="rId1" Type="http://schemas.openxmlformats.org/officeDocument/2006/relationships/slide" Target="../slides/slide355.xml"/><Relationship Id="rId2" Type="http://schemas.openxmlformats.org/officeDocument/2006/relationships/notesMaster" Target="../notesMasters/notesMaster1.xml"/>
</Relationships>
</file>

<file path=ppt/notesSlides/_rels/notesSlide356.xml.rels><?xml version="1.0" encoding="UTF-8"?>
<Relationships xmlns="http://schemas.openxmlformats.org/package/2006/relationships"><Relationship Id="rId1" Type="http://schemas.openxmlformats.org/officeDocument/2006/relationships/slide" Target="../slides/slide356.xml"/><Relationship Id="rId2" Type="http://schemas.openxmlformats.org/officeDocument/2006/relationships/notesMaster" Target="../notesMasters/notesMaster1.xml"/>
</Relationships>
</file>

<file path=ppt/notesSlides/_rels/notesSlide357.xml.rels><?xml version="1.0" encoding="UTF-8"?>
<Relationships xmlns="http://schemas.openxmlformats.org/package/2006/relationships"><Relationship Id="rId1" Type="http://schemas.openxmlformats.org/officeDocument/2006/relationships/slide" Target="../slides/slide357.xml"/><Relationship Id="rId2" Type="http://schemas.openxmlformats.org/officeDocument/2006/relationships/notesMaster" Target="../notesMasters/notesMaster1.xml"/>
</Relationships>
</file>

<file path=ppt/notesSlides/_rels/notesSlide358.xml.rels><?xml version="1.0" encoding="UTF-8"?>
<Relationships xmlns="http://schemas.openxmlformats.org/package/2006/relationships"><Relationship Id="rId1" Type="http://schemas.openxmlformats.org/officeDocument/2006/relationships/slide" Target="../slides/slide358.xml"/><Relationship Id="rId2" Type="http://schemas.openxmlformats.org/officeDocument/2006/relationships/notesMaster" Target="../notesMasters/notesMaster1.xml"/>
</Relationships>
</file>

<file path=ppt/notesSlides/_rels/notesSlide359.xml.rels><?xml version="1.0" encoding="UTF-8"?>
<Relationships xmlns="http://schemas.openxmlformats.org/package/2006/relationships"><Relationship Id="rId1" Type="http://schemas.openxmlformats.org/officeDocument/2006/relationships/slide" Target="../slides/slide35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60.xml.rels><?xml version="1.0" encoding="UTF-8"?>
<Relationships xmlns="http://schemas.openxmlformats.org/package/2006/relationships"><Relationship Id="rId1" Type="http://schemas.openxmlformats.org/officeDocument/2006/relationships/slide" Target="../slides/slide360.xml"/><Relationship Id="rId2" Type="http://schemas.openxmlformats.org/officeDocument/2006/relationships/notesMaster" Target="../notesMasters/notesMaster1.xml"/>
</Relationships>
</file>

<file path=ppt/notesSlides/_rels/notesSlide361.xml.rels><?xml version="1.0" encoding="UTF-8"?>
<Relationships xmlns="http://schemas.openxmlformats.org/package/2006/relationships"><Relationship Id="rId1" Type="http://schemas.openxmlformats.org/officeDocument/2006/relationships/slide" Target="../slides/slide361.xml"/><Relationship Id="rId2" Type="http://schemas.openxmlformats.org/officeDocument/2006/relationships/notesMaster" Target="../notesMasters/notesMaster1.xml"/>
</Relationships>
</file>

<file path=ppt/notesSlides/_rels/notesSlide362.xml.rels><?xml version="1.0" encoding="UTF-8"?>
<Relationships xmlns="http://schemas.openxmlformats.org/package/2006/relationships"><Relationship Id="rId1" Type="http://schemas.openxmlformats.org/officeDocument/2006/relationships/slide" Target="../slides/slide362.xml"/><Relationship Id="rId2" Type="http://schemas.openxmlformats.org/officeDocument/2006/relationships/notesMaster" Target="../notesMasters/notesMaster1.xml"/>
</Relationships>
</file>

<file path=ppt/notesSlides/_rels/notesSlide363.xml.rels><?xml version="1.0" encoding="UTF-8"?>
<Relationships xmlns="http://schemas.openxmlformats.org/package/2006/relationships"><Relationship Id="rId1" Type="http://schemas.openxmlformats.org/officeDocument/2006/relationships/slide" Target="../slides/slide363.xml"/><Relationship Id="rId2" Type="http://schemas.openxmlformats.org/officeDocument/2006/relationships/notesMaster" Target="../notesMasters/notesMaster1.xml"/>
</Relationships>
</file>

<file path=ppt/notesSlides/_rels/notesSlide364.xml.rels><?xml version="1.0" encoding="UTF-8"?>
<Relationships xmlns="http://schemas.openxmlformats.org/package/2006/relationships"><Relationship Id="rId1" Type="http://schemas.openxmlformats.org/officeDocument/2006/relationships/slide" Target="../slides/slide364.xml"/><Relationship Id="rId2" Type="http://schemas.openxmlformats.org/officeDocument/2006/relationships/notesMaster" Target="../notesMasters/notesMaster1.xml"/>
</Relationships>
</file>

<file path=ppt/notesSlides/_rels/notesSlide365.xml.rels><?xml version="1.0" encoding="UTF-8"?>
<Relationships xmlns="http://schemas.openxmlformats.org/package/2006/relationships"><Relationship Id="rId1" Type="http://schemas.openxmlformats.org/officeDocument/2006/relationships/slide" Target="../slides/slide365.xml"/><Relationship Id="rId2" Type="http://schemas.openxmlformats.org/officeDocument/2006/relationships/notesMaster" Target="../notesMasters/notesMaster1.xml"/>
</Relationships>
</file>

<file path=ppt/notesSlides/_rels/notesSlide366.xml.rels><?xml version="1.0" encoding="UTF-8"?>
<Relationships xmlns="http://schemas.openxmlformats.org/package/2006/relationships"><Relationship Id="rId1" Type="http://schemas.openxmlformats.org/officeDocument/2006/relationships/slide" Target="../slides/slide366.xml"/><Relationship Id="rId2" Type="http://schemas.openxmlformats.org/officeDocument/2006/relationships/notesMaster" Target="../notesMasters/notesMaster1.xml"/>
</Relationships>
</file>

<file path=ppt/notesSlides/_rels/notesSlide367.xml.rels><?xml version="1.0" encoding="UTF-8"?>
<Relationships xmlns="http://schemas.openxmlformats.org/package/2006/relationships"><Relationship Id="rId1" Type="http://schemas.openxmlformats.org/officeDocument/2006/relationships/slide" Target="../slides/slide367.xml"/><Relationship Id="rId2" Type="http://schemas.openxmlformats.org/officeDocument/2006/relationships/notesMaster" Target="../notesMasters/notesMaster1.xml"/>
</Relationships>
</file>

<file path=ppt/notesSlides/_rels/notesSlide368.xml.rels><?xml version="1.0" encoding="UTF-8"?>
<Relationships xmlns="http://schemas.openxmlformats.org/package/2006/relationships"><Relationship Id="rId1" Type="http://schemas.openxmlformats.org/officeDocument/2006/relationships/slide" Target="../slides/slide368.xml"/><Relationship Id="rId2" Type="http://schemas.openxmlformats.org/officeDocument/2006/relationships/notesMaster" Target="../notesMasters/notesMaster1.xml"/>
</Relationships>
</file>

<file path=ppt/notesSlides/_rels/notesSlide369.xml.rels><?xml version="1.0" encoding="UTF-8"?>
<Relationships xmlns="http://schemas.openxmlformats.org/package/2006/relationships"><Relationship Id="rId1" Type="http://schemas.openxmlformats.org/officeDocument/2006/relationships/slide" Target="../slides/slide369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70.xml.rels><?xml version="1.0" encoding="UTF-8"?>
<Relationships xmlns="http://schemas.openxmlformats.org/package/2006/relationships"><Relationship Id="rId1" Type="http://schemas.openxmlformats.org/officeDocument/2006/relationships/slide" Target="../slides/slide370.xml"/><Relationship Id="rId2" Type="http://schemas.openxmlformats.org/officeDocument/2006/relationships/notesMaster" Target="../notesMasters/notesMaster1.xml"/>
</Relationships>
</file>

<file path=ppt/notesSlides/_rels/notesSlide371.xml.rels><?xml version="1.0" encoding="UTF-8"?>
<Relationships xmlns="http://schemas.openxmlformats.org/package/2006/relationships"><Relationship Id="rId1" Type="http://schemas.openxmlformats.org/officeDocument/2006/relationships/slide" Target="../slides/slide371.xml"/><Relationship Id="rId2" Type="http://schemas.openxmlformats.org/officeDocument/2006/relationships/notesMaster" Target="../notesMasters/notesMaster1.xml"/>
</Relationships>
</file>

<file path=ppt/notesSlides/_rels/notesSlide372.xml.rels><?xml version="1.0" encoding="UTF-8"?>
<Relationships xmlns="http://schemas.openxmlformats.org/package/2006/relationships"><Relationship Id="rId1" Type="http://schemas.openxmlformats.org/officeDocument/2006/relationships/slide" Target="../slides/slide372.xml"/><Relationship Id="rId2" Type="http://schemas.openxmlformats.org/officeDocument/2006/relationships/notesMaster" Target="../notesMasters/notesMaster1.xml"/>
</Relationships>
</file>

<file path=ppt/notesSlides/_rels/notesSlide373.xml.rels><?xml version="1.0" encoding="UTF-8"?>
<Relationships xmlns="http://schemas.openxmlformats.org/package/2006/relationships"><Relationship Id="rId1" Type="http://schemas.openxmlformats.org/officeDocument/2006/relationships/slide" Target="../slides/slide373.xml"/><Relationship Id="rId2" Type="http://schemas.openxmlformats.org/officeDocument/2006/relationships/notesMaster" Target="../notesMasters/notesMaster1.xml"/>
</Relationships>
</file>

<file path=ppt/notesSlides/_rels/notesSlide374.xml.rels><?xml version="1.0" encoding="UTF-8"?>
<Relationships xmlns="http://schemas.openxmlformats.org/package/2006/relationships"><Relationship Id="rId1" Type="http://schemas.openxmlformats.org/officeDocument/2006/relationships/slide" Target="../slides/slide374.xml"/><Relationship Id="rId2" Type="http://schemas.openxmlformats.org/officeDocument/2006/relationships/notesMaster" Target="../notesMasters/notesMaster1.xml"/>
</Relationships>
</file>

<file path=ppt/notesSlides/_rels/notesSlide375.xml.rels><?xml version="1.0" encoding="UTF-8"?>
<Relationships xmlns="http://schemas.openxmlformats.org/package/2006/relationships"><Relationship Id="rId1" Type="http://schemas.openxmlformats.org/officeDocument/2006/relationships/slide" Target="../slides/slide375.xml"/><Relationship Id="rId2" Type="http://schemas.openxmlformats.org/officeDocument/2006/relationships/notesMaster" Target="../notesMasters/notesMaster1.xml"/>
</Relationships>
</file>

<file path=ppt/notesSlides/_rels/notesSlide376.xml.rels><?xml version="1.0" encoding="UTF-8"?>
<Relationships xmlns="http://schemas.openxmlformats.org/package/2006/relationships"><Relationship Id="rId1" Type="http://schemas.openxmlformats.org/officeDocument/2006/relationships/slide" Target="../slides/slide376.xml"/><Relationship Id="rId2" Type="http://schemas.openxmlformats.org/officeDocument/2006/relationships/notesMaster" Target="../notesMasters/notesMaster1.xml"/>
</Relationships>
</file>

<file path=ppt/notesSlides/_rels/notesSlide377.xml.rels><?xml version="1.0" encoding="UTF-8"?>
<Relationships xmlns="http://schemas.openxmlformats.org/package/2006/relationships"><Relationship Id="rId1" Type="http://schemas.openxmlformats.org/officeDocument/2006/relationships/slide" Target="../slides/slide377.xml"/><Relationship Id="rId2" Type="http://schemas.openxmlformats.org/officeDocument/2006/relationships/notesMaster" Target="../notesMasters/notesMaster1.xml"/>
</Relationships>
</file>

<file path=ppt/notesSlides/_rels/notesSlide378.xml.rels><?xml version="1.0" encoding="UTF-8"?>
<Relationships xmlns="http://schemas.openxmlformats.org/package/2006/relationships"><Relationship Id="rId1" Type="http://schemas.openxmlformats.org/officeDocument/2006/relationships/slide" Target="../slides/slide378.xml"/><Relationship Id="rId2" Type="http://schemas.openxmlformats.org/officeDocument/2006/relationships/notesMaster" Target="../notesMasters/notesMaster1.xml"/>
</Relationships>
</file>

<file path=ppt/notesSlides/_rels/notesSlide379.xml.rels><?xml version="1.0" encoding="UTF-8"?>
<Relationships xmlns="http://schemas.openxmlformats.org/package/2006/relationships"><Relationship Id="rId1" Type="http://schemas.openxmlformats.org/officeDocument/2006/relationships/slide" Target="../slides/slide37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80.xml.rels><?xml version="1.0" encoding="UTF-8"?>
<Relationships xmlns="http://schemas.openxmlformats.org/package/2006/relationships"><Relationship Id="rId1" Type="http://schemas.openxmlformats.org/officeDocument/2006/relationships/slide" Target="../slides/slide380.xml"/><Relationship Id="rId2" Type="http://schemas.openxmlformats.org/officeDocument/2006/relationships/notesMaster" Target="../notesMasters/notesMaster1.xml"/>
</Relationships>
</file>

<file path=ppt/notesSlides/_rels/notesSlide381.xml.rels><?xml version="1.0" encoding="UTF-8"?>
<Relationships xmlns="http://schemas.openxmlformats.org/package/2006/relationships"><Relationship Id="rId1" Type="http://schemas.openxmlformats.org/officeDocument/2006/relationships/slide" Target="../slides/slide381.xml"/><Relationship Id="rId2" Type="http://schemas.openxmlformats.org/officeDocument/2006/relationships/notesMaster" Target="../notesMasters/notesMaster1.xml"/>
</Relationships>
</file>

<file path=ppt/notesSlides/_rels/notesSlide382.xml.rels><?xml version="1.0" encoding="UTF-8"?>
<Relationships xmlns="http://schemas.openxmlformats.org/package/2006/relationships"><Relationship Id="rId1" Type="http://schemas.openxmlformats.org/officeDocument/2006/relationships/slide" Target="../slides/slide382.xml"/><Relationship Id="rId2" Type="http://schemas.openxmlformats.org/officeDocument/2006/relationships/notesMaster" Target="../notesMasters/notesMaster1.xml"/>
</Relationships>
</file>

<file path=ppt/notesSlides/_rels/notesSlide383.xml.rels><?xml version="1.0" encoding="UTF-8"?>
<Relationships xmlns="http://schemas.openxmlformats.org/package/2006/relationships"><Relationship Id="rId1" Type="http://schemas.openxmlformats.org/officeDocument/2006/relationships/slide" Target="../slides/slide383.xml"/><Relationship Id="rId2" Type="http://schemas.openxmlformats.org/officeDocument/2006/relationships/notesMaster" Target="../notesMasters/notesMaster1.xml"/>
</Relationships>
</file>

<file path=ppt/notesSlides/_rels/notesSlide384.xml.rels><?xml version="1.0" encoding="UTF-8"?>
<Relationships xmlns="http://schemas.openxmlformats.org/package/2006/relationships"><Relationship Id="rId1" Type="http://schemas.openxmlformats.org/officeDocument/2006/relationships/slide" Target="../slides/slide384.xml"/><Relationship Id="rId2" Type="http://schemas.openxmlformats.org/officeDocument/2006/relationships/notesMaster" Target="../notesMasters/notesMaster1.xml"/>
</Relationships>
</file>

<file path=ppt/notesSlides/_rels/notesSlide385.xml.rels><?xml version="1.0" encoding="UTF-8"?>
<Relationships xmlns="http://schemas.openxmlformats.org/package/2006/relationships"><Relationship Id="rId1" Type="http://schemas.openxmlformats.org/officeDocument/2006/relationships/slide" Target="../slides/slide385.xml"/><Relationship Id="rId2" Type="http://schemas.openxmlformats.org/officeDocument/2006/relationships/notesMaster" Target="../notesMasters/notesMaster1.xml"/>
</Relationships>
</file>

<file path=ppt/notesSlides/_rels/notesSlide386.xml.rels><?xml version="1.0" encoding="UTF-8"?>
<Relationships xmlns="http://schemas.openxmlformats.org/package/2006/relationships"><Relationship Id="rId1" Type="http://schemas.openxmlformats.org/officeDocument/2006/relationships/slide" Target="../slides/slide386.xml"/><Relationship Id="rId2" Type="http://schemas.openxmlformats.org/officeDocument/2006/relationships/notesMaster" Target="../notesMasters/notesMaster1.xml"/>
</Relationships>
</file>

<file path=ppt/notesSlides/_rels/notesSlide387.xml.rels><?xml version="1.0" encoding="UTF-8"?>
<Relationships xmlns="http://schemas.openxmlformats.org/package/2006/relationships"><Relationship Id="rId1" Type="http://schemas.openxmlformats.org/officeDocument/2006/relationships/slide" Target="../slides/slide387.xml"/><Relationship Id="rId2" Type="http://schemas.openxmlformats.org/officeDocument/2006/relationships/notesMaster" Target="../notesMasters/notesMaster1.xml"/>
</Relationships>
</file>

<file path=ppt/notesSlides/_rels/notesSlide388.xml.rels><?xml version="1.0" encoding="UTF-8"?>
<Relationships xmlns="http://schemas.openxmlformats.org/package/2006/relationships"><Relationship Id="rId1" Type="http://schemas.openxmlformats.org/officeDocument/2006/relationships/slide" Target="../slides/slide388.xml"/><Relationship Id="rId2" Type="http://schemas.openxmlformats.org/officeDocument/2006/relationships/notesMaster" Target="../notesMasters/notesMaster1.xml"/>
</Relationships>
</file>

<file path=ppt/notesSlides/_rels/notesSlide389.xml.rels><?xml version="1.0" encoding="UTF-8"?>
<Relationships xmlns="http://schemas.openxmlformats.org/package/2006/relationships"><Relationship Id="rId1" Type="http://schemas.openxmlformats.org/officeDocument/2006/relationships/slide" Target="../slides/slide389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390.xml.rels><?xml version="1.0" encoding="UTF-8"?>
<Relationships xmlns="http://schemas.openxmlformats.org/package/2006/relationships"><Relationship Id="rId1" Type="http://schemas.openxmlformats.org/officeDocument/2006/relationships/slide" Target="../slides/slide390.xml"/><Relationship Id="rId2" Type="http://schemas.openxmlformats.org/officeDocument/2006/relationships/notesMaster" Target="../notesMasters/notesMaster1.xml"/>
</Relationships>
</file>

<file path=ppt/notesSlides/_rels/notesSlide391.xml.rels><?xml version="1.0" encoding="UTF-8"?>
<Relationships xmlns="http://schemas.openxmlformats.org/package/2006/relationships"><Relationship Id="rId1" Type="http://schemas.openxmlformats.org/officeDocument/2006/relationships/slide" Target="../slides/slide391.xml"/><Relationship Id="rId2" Type="http://schemas.openxmlformats.org/officeDocument/2006/relationships/notesMaster" Target="../notesMasters/notesMaster1.xml"/>
</Relationships>
</file>

<file path=ppt/notesSlides/_rels/notesSlide392.xml.rels><?xml version="1.0" encoding="UTF-8"?>
<Relationships xmlns="http://schemas.openxmlformats.org/package/2006/relationships"><Relationship Id="rId1" Type="http://schemas.openxmlformats.org/officeDocument/2006/relationships/slide" Target="../slides/slide392.xml"/><Relationship Id="rId2" Type="http://schemas.openxmlformats.org/officeDocument/2006/relationships/notesMaster" Target="../notesMasters/notesMaster1.xml"/>
</Relationships>
</file>

<file path=ppt/notesSlides/_rels/notesSlide393.xml.rels><?xml version="1.0" encoding="UTF-8"?>
<Relationships xmlns="http://schemas.openxmlformats.org/package/2006/relationships"><Relationship Id="rId1" Type="http://schemas.openxmlformats.org/officeDocument/2006/relationships/slide" Target="../slides/slide393.xml"/><Relationship Id="rId2" Type="http://schemas.openxmlformats.org/officeDocument/2006/relationships/notesMaster" Target="../notesMasters/notesMaster1.xml"/>
</Relationships>
</file>

<file path=ppt/notesSlides/_rels/notesSlide394.xml.rels><?xml version="1.0" encoding="UTF-8"?>
<Relationships xmlns="http://schemas.openxmlformats.org/package/2006/relationships"><Relationship Id="rId1" Type="http://schemas.openxmlformats.org/officeDocument/2006/relationships/slide" Target="../slides/slide394.xml"/><Relationship Id="rId2" Type="http://schemas.openxmlformats.org/officeDocument/2006/relationships/notesMaster" Target="../notesMasters/notesMaster1.xml"/>
</Relationships>
</file>

<file path=ppt/notesSlides/_rels/notesSlide395.xml.rels><?xml version="1.0" encoding="UTF-8"?>
<Relationships xmlns="http://schemas.openxmlformats.org/package/2006/relationships"><Relationship Id="rId1" Type="http://schemas.openxmlformats.org/officeDocument/2006/relationships/slide" Target="../slides/slide395.xml"/><Relationship Id="rId2" Type="http://schemas.openxmlformats.org/officeDocument/2006/relationships/notesMaster" Target="../notesMasters/notesMaster1.xml"/>
</Relationships>
</file>

<file path=ppt/notesSlides/_rels/notesSlide396.xml.rels><?xml version="1.0" encoding="UTF-8"?>
<Relationships xmlns="http://schemas.openxmlformats.org/package/2006/relationships"><Relationship Id="rId1" Type="http://schemas.openxmlformats.org/officeDocument/2006/relationships/slide" Target="../slides/slide396.xml"/><Relationship Id="rId2" Type="http://schemas.openxmlformats.org/officeDocument/2006/relationships/notesMaster" Target="../notesMasters/notesMaster1.xml"/>
</Relationships>
</file>

<file path=ppt/notesSlides/_rels/notesSlide397.xml.rels><?xml version="1.0" encoding="UTF-8"?>
<Relationships xmlns="http://schemas.openxmlformats.org/package/2006/relationships"><Relationship Id="rId1" Type="http://schemas.openxmlformats.org/officeDocument/2006/relationships/slide" Target="../slides/slide397.xml"/><Relationship Id="rId2" Type="http://schemas.openxmlformats.org/officeDocument/2006/relationships/notesMaster" Target="../notesMasters/notesMaster1.xml"/>
</Relationships>
</file>

<file path=ppt/notesSlides/_rels/notesSlide398.xml.rels><?xml version="1.0" encoding="UTF-8"?>
<Relationships xmlns="http://schemas.openxmlformats.org/package/2006/relationships"><Relationship Id="rId1" Type="http://schemas.openxmlformats.org/officeDocument/2006/relationships/slide" Target="../slides/slide398.xml"/><Relationship Id="rId2" Type="http://schemas.openxmlformats.org/officeDocument/2006/relationships/notesMaster" Target="../notesMasters/notesMaster1.xml"/>
</Relationships>
</file>

<file path=ppt/notesSlides/_rels/notesSlide399.xml.rels><?xml version="1.0" encoding="UTF-8"?>
<Relationships xmlns="http://schemas.openxmlformats.org/package/2006/relationships"><Relationship Id="rId1" Type="http://schemas.openxmlformats.org/officeDocument/2006/relationships/slide" Target="../slides/slide39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00.xml.rels><?xml version="1.0" encoding="UTF-8"?>
<Relationships xmlns="http://schemas.openxmlformats.org/package/2006/relationships"><Relationship Id="rId1" Type="http://schemas.openxmlformats.org/officeDocument/2006/relationships/slide" Target="../slides/slide40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F47A-004A-42B4-9020-908BBE8859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854F-56DE-4B9A-84E5-20011E272F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B963-3FE4-413C-BB85-F552838EFA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666E-280C-4EDD-AF14-DF5D6C632E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1001-8C81-459E-B76B-0545DF24FA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BAD2-8E25-4635-A91B-ABF9C3AD06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83B6-16A4-4DF3-BFFC-0F74413B24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6A6B-A82F-4B94-8D19-E08D61B114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FD13-F9A3-431C-9832-732FE025B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8D34-BB0D-42CC-A818-E30994E9CD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41D7-8507-417E-9654-2C61DD64F4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7658-6209-44C5-81CA-2E7830C0D0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1077-6DF7-4214-B23E-045D8A3F39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4201-CBFA-4AB2-867F-2268DB54F4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EE66-1157-4FB6-9453-95926DBDDC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1A3D-7E45-4BF1-B1B9-F7A3BBC227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8CDD-21C0-41E7-A935-C8483556E1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03DC-DB08-4D32-BBBE-8274B1BFB5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2E6B-0806-4C0E-9F13-35F22A21FC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9426-3457-4AF8-8D07-93C2427C71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CE2-5D8C-45E5-976B-640786C2F2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DBA2-E83B-4960-A651-7C58467868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F419-E627-4ECF-9AD7-E3012A5F87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4426-EE15-43DB-AC6F-CFBD8C3304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03B0-1A41-4BF6-B9C2-500BCC1E5B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AB48-D8CD-4458-AABC-0453029233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B52C-B775-4FA5-A38D-C529FBA8A5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F5C7-80BB-4DC3-A26F-D73E07214E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8B65-332B-4386-BC94-BFE1E7B633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773B-995B-4B45-8161-AC71CF2973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3CD5-A203-4944-ABE2-224D70D062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F959-85BA-4CF0-893D-914105E016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D83B-BF88-4A30-B5EE-F6707B0A2A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7F7D-EED0-4AF6-BE54-EE1EFB3DB7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1652-438D-4D71-BA88-FF7697A978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A52F-AAD2-4057-B0C1-6918ADA9D8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0AE4-0E8F-4E98-89A1-4C514ACFC7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8FE3-669C-4FB9-BC51-1607DAE723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50D9-7721-4CCC-98F3-F567C10707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951D-CAF1-41A2-809B-29BE3D3AFE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EE3E-B814-46AF-B230-A36B841CD7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EE66-6B00-4BDE-A044-DC25223194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25C0-4A92-4749-A635-37694A978C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5FED-AC57-473A-A07F-F4F26132C2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07D8-40A8-4387-998C-0439926E35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1C3D-9A5E-4933-A91B-4D27D53FAA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F8A7-B173-45B7-B4C2-4D46246F8F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18BF-9109-464E-930A-FEB07F3EFC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1053-8DAB-486A-9FDE-0F481643C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E0AC-3BD1-4269-8489-3422DB48A8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998D-DEC2-4F90-B972-529BA9EB2E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5754-DE60-4570-B928-DEAE78968B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C7BC-D14D-43E1-9184-41472497F6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D956-E8CF-47B8-BE47-45F2D1D9DE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E778-D644-48D1-A98B-DD0D9D53BC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337E-74B1-4C07-A87C-C3E0119C97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D805-05D1-42BA-99E6-4C93921077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39A2-8772-47F9-8F48-F2AB0F12CA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78D8-823A-41CB-8B6D-C8D2C696BD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14C5-22ED-4D60-88B8-3F676098B5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A5C4-40F1-46A8-A242-B6BDDFBC34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3C02-5AC8-4B43-9103-C0F9E374EA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85FC-1B64-467F-96E6-1713834F27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6023-8648-4576-884F-E85E2CACE7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2E97-3625-4C55-B3B8-1EA67B246E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B966-6FD8-4411-BF4E-D7AE37B788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196-5B4D-4E9B-8850-4FB076C258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ED78-B01D-4497-B462-A5381659EA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89BB-29C6-47B2-87EB-FA44FBF246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B235-C3B8-42E8-A3AE-8A2BFAE8E4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DBD4-B47A-4E2B-9C73-F49E7427B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31D1-BA48-4527-A4C3-A5BA1C5AF5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7FD6-9D25-4ED8-A46E-96ED4E5D07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119E-BD2E-4E13-A83C-5DD52505F8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0002-9A7F-4784-9CF7-F2A2AF234D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74EC-1998-41CA-84A0-6A560F85E4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89B1-2D86-4B52-BA67-26DD5A3B6A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F615-A971-4567-9258-25638162CA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DD7C-800A-4D65-B147-52E510A99B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FE28-9EF7-44B8-8485-F8494F30CC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44FB-2F4B-41D2-933F-BB728788DC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8EB7-269E-4690-AC06-A1A7D3C32F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0592-6F35-42E1-A736-CC1BF8FB87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BBF7-B855-48E9-95F8-D190875CDA4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5B96-B2DE-44B6-B1CC-CC2108744D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18BF-57A5-4930-8F93-0BAD43C07A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730C-BB14-4CF8-865C-F646690F95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A6D0-543D-486B-BF13-78F707E9FE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6C96-DB13-45EB-B4D2-ADE56B3984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09D5-527C-452D-8FFE-DE46A7FCCD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695C-4F0D-47AD-AB7A-8BECC45127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59B9-F1BC-4FD3-AD0E-E7B125D6A5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DC33-DBB0-4AAF-BF48-0E62626E60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F393-F156-473E-B501-3D8932434F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9317-3655-430E-BAFF-3D820DA292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7367-E7B0-4CDF-A462-D96649B1C2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53C0-7F19-4F08-A4C9-A0F56D3F4F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4321-2377-4E66-9AFA-975CD8871B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814F-9861-43CA-B8DC-9BD6D1211F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8794-93B7-4049-A51A-B361EBA6F2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F8F8-D4E8-438A-9E90-BC488F1603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3A9F-71EA-45FB-8156-AEDCA248FA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8B4D-52F8-4494-BD7C-879E878F63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D46B-AA49-4529-96B3-9F24765154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653A-D465-4A93-8AA3-77D184D239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19B2-EA32-4D73-9AB8-F5C5260E24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F478-174D-49B7-A938-DDF65EB12F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3F4B-0B40-432A-835A-2E007E1F6B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3A84-B624-4513-85EB-9D90664399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61E4-B864-4AFA-9C0F-B18CD99F85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0A51-9D9F-4E19-BB5A-AB0A994F3F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14F3-2BA7-427C-ADCF-1BA5C3C297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FFE6-6EFD-43E5-948F-86ED108D32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E966-ED80-4ED7-AE50-E125533E51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319C-2B74-492E-B2A2-E3A550DCA5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6B84-2BD7-4451-A83C-D4EF397785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C108-5912-4BBF-894F-A9AD030F3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3381-D8E0-4A4C-86CE-9B90C69A41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AF73-F9F5-4184-8647-26315E0E9B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F3AB-3B1A-4147-BB63-3BF966DE18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591D-1FCE-4ACB-83D2-024499F691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0BE3-AF2A-4CFF-B3EF-06D5E20BA3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B808-3F99-43B0-A240-A4C9C07207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1ADF-8542-42EE-A863-B32AE8B3E4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F04F-0C50-4261-B967-181DD3B27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D3EC-CA7B-4625-92AD-8D22A6BBD1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C56C-9428-450F-8CC1-FF20FDF8D6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E299-B04A-420D-8AE9-A120BF4E8F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318D-39B8-4288-A969-80D4CBADD7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D7F6-EB32-45B7-A181-3576A2750C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7A6D-D5B8-4B50-8CA9-BD549D231E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DC3-A02B-4529-93BB-F44C3ACEB3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2567-8336-4617-8A66-88B8B60554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68DF-20E9-4F6A-AD47-51FC9842C4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4A2E-0F4F-420E-AB23-AA2F770C23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EF0E-18C3-4AD8-8BEE-C1549F5706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A394-6E91-4A7F-A8A1-A5D5F4BD3E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9A46-4D24-472B-95E7-1C8C9C5C03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DD10-878D-4946-BC14-1F262977A2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5E0D-C3BE-4880-9B31-92D3650216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EB6B-B24E-471B-B0FB-9A674F5F49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FC69-54DA-4B8F-84A0-9299CA73DD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4B11-DD20-44DC-8DC5-3430EF95FF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135D-35B9-4797-974A-63D39340A9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A47F-710C-4DD2-BB88-CE420AF730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296D-05AD-4095-970C-87D77927C1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4530-433F-49C6-B0D0-87B7B9DD14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4392-177A-4074-8F54-13D6B3AD61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83B8-DF31-4327-998B-83AA4A5AD4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D8D2-AB4D-41AC-8853-6450F1735A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78E0-7ACA-4EFD-A77C-5D4D7ADF89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9A9C-2629-4259-B883-63BE4DE8A6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6173-6831-4783-9D9C-5F931839AB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2B43-B9E9-42DA-ACE9-F382C12C8C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BA13-0252-4C22-925E-EA6B46B276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EE3B-4E93-44E5-9A2E-8F34EB5705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0D91-454B-4219-B62C-03D25C6B8F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5B7D-427D-4162-A390-E9980CC91D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D6DF-22A2-4919-B7FE-BC02CD65AC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1B1A-26BB-4B69-BE6D-BCA46B6CB8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A129-205E-4504-9DBD-2337F1BE9C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1F9E-A189-43A4-B26D-6B9BFA40C5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923D-CB39-4456-B499-84A7CBF88C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D97C-CAE2-4537-9C69-2F3CE4CE0E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330B-8E1B-42A6-9AA3-E943359E2A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F7C8-4C3A-448D-8376-2319AD2B1A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38F7-71EF-4AA2-BB59-EC219A676A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3076-B8EB-448D-B412-52582E658E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4388-03D5-4E60-95E7-5E2565663D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062D-8286-4E86-AD4F-3209B70010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1F78-41BD-403E-A137-A11CF654F2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30EB-F36B-479B-BC55-B0617D266D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6205-6D54-4B7A-B0DF-248BF41AEC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8440-EDAC-45D4-811B-D616A607B6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4745-C15F-48A9-9320-10E1AE654C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49CE-13C4-4623-9EC9-35F55778B6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0CFC-BDD8-4B9C-A3F3-9FABCCCAEF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FD90-D28C-4DF9-B5F1-99448D9159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1F40-F6FF-472F-AF02-D451F51E7C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756B-69B1-4CAC-B83E-65FBFAF592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84BF-A6DF-4D18-873F-16A12E9B83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1B3E-DDA5-4656-86DC-50E1397CDC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E18E-832D-488C-9F9A-F62A3C56D5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7647-3A50-4D4A-B1F4-20EDF98C4F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9286-9C6C-4462-8856-538AFC59F7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1019-1FFF-4B1D-9FB2-3A7E0FF5E3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5C5E-D6AE-48F8-817A-231ECA3909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2B7C-AB97-4E71-BC38-C585B1DCCB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BACA-9367-4DD7-882C-942097B0DA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EC3B-88CD-40D3-B9FD-3FFEEED75D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3FA5-2417-4E9B-A34A-DA7829F7FE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8A50-BD33-47AA-9036-9F8FC0733A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5B0F-0004-4345-98EE-1DBC68C7FF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84D1-C98E-4D49-8B7A-D799775EE6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34E5-A1A6-4EA8-8164-C3B79B1136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7C33-DAAF-409A-A329-45B992714E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55AF-9C86-4BA5-B590-D77282B97F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5030-BA96-4401-93D8-AB72493066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3951-23A7-4D87-BEEA-15524CBD90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1314-13E8-492C-B5F9-B75B53F5C7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4ECD-CCC6-4FE0-BD71-770C0F3CDB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C72E-2442-498F-8AD7-9ABB6D2A8C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6ACB-56D2-4931-9918-309667788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9127-E71B-4485-9098-9247C59BD8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7AFD-034C-48B5-8F71-84AB2B4589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67E4-B6BF-4515-899D-A04AF7FCFA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C71F-D241-47CB-A89F-54ADF89FFC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AFF8-C5A1-4F64-B09B-8E23ECEB5C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72DC-5662-461C-9AA2-33ACA0ACF8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D140-7D72-4B27-A1B2-F82459B94D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43E7-E3E8-46B1-8A5B-F331E8E265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8F8C-46CF-44E2-A641-212DF7D423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195D-E8DC-4E51-9830-CF0BE7D90B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A3FA-0B0B-4FF3-8FEE-9C0EF9D0D1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68FB-DE5C-40C9-8B3B-2799D860DF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DB73-0D04-4985-849D-921D73BE75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D1D-945B-4818-9209-FEFA91CDFA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E34D-428F-44C1-A2CA-6178473215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8F09-5374-4E9D-BA3C-36D2D21866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F4DE-3D4A-4D45-A499-DE851F9C38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76BD-3AE0-43A3-BA87-D105CB86E1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B45A-4C01-4DD6-8FB1-870A67DEE4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7E05-31F0-4116-B3FC-A739691243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CC5A-ADEC-4B4F-B843-02BE5E963A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81BD-94FD-4204-A9BA-115BC77D27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DBE8-8C70-481F-8713-9D8EF575CD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45CC-5C5E-4E6E-AA9C-7FF460587E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5B7E-451D-49EC-9A8A-3B3FC5FC78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AC9F-8D63-488F-B515-18701C03A3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095C-6BD6-4919-93B4-6FAEEC37DC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FDC7-BA20-4AFE-9C87-07583B17B9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64D6-7A50-4C8A-AD5E-3F84CB6194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87C9-228C-442D-961D-55900E8CE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1878-F5E9-49AD-97D8-E3AAFD4ED8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0078-40F7-4AF2-8B98-5A82595B2D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0F96-3C7E-4F68-962B-10DB0D64A8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3709-7D7F-4F71-A21A-5A313F73CF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F8A4-BC25-4C24-A6C0-0201D62AC4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C4A2-6488-4DE6-A8F1-27DB673E38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68C7-31B1-43CB-8C39-A80814EFBC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9A17-4A0E-4FED-B2F4-F7AA452683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93C4-F413-4A3C-9810-CB7D70B4DB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8506-1966-437F-A865-B84E1E1B99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0760-F821-4455-A254-7279036510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84A0-3FFC-466C-8C8B-BD48DBF39C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B506-3B0C-4F84-B6DC-FF49ACFD2E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8F26-7803-4D3C-9CCD-FEFE41031F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85E0-7DB2-465F-9384-EB6960D1F2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D1FA-5A27-4EE9-8984-9330662CD9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A995-5423-4779-B6A2-08ADCF0D85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83C7-7E05-45DE-9B00-C877709BC8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3867-124C-4C3C-BCDA-AE91A75271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0256-2884-46F4-AB52-168B77D9EF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788E-616A-4B2F-BC06-4954436FD8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8C3A-5428-4AF6-9B7D-8AF394A841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C309-1E5F-46BB-B3B2-F8D3BB6B98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0B11-EA72-488C-A5B8-914F5D2571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926-17C1-4E91-9B13-CA889EA7A5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A48D-4CC5-4AD2-AB30-70549C4EB6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5745-3D49-4E95-B7D4-84510C69A9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DC39-CA2F-424F-9FB9-75AB8AE15F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7253-7343-4EB8-B7F4-C6311B8F8F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3125-9906-4BEC-95B2-FCC5768033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C401-52D3-49EE-AA78-17B50CFCAA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F009-DF60-454C-894B-CE82698584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3712-8416-4575-BA4B-84D4544D69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2984-CACB-4B17-88A9-A310D0D4E4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444D-7EAB-4498-9621-871AD5B803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A6E4-9610-476A-92CB-DCD18DC8DD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8865-100E-43A2-8A08-DF73F7C961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DE5-2E14-4154-BA6A-6C7B1E828F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D0BD-63EF-43B8-8EF4-AEC903EF08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F607-9FF7-4B62-AFAB-8D5C0A270A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BEBB-AF69-4E96-A9DC-8B33C11153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DC08-957C-49E4-A562-3DFB6034B4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E498-E374-45D7-8366-26D6690E9A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985F-F656-4882-8904-6AE6C401DA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B16D-1001-4FBE-B9C1-651F63C604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3D94-7572-49F9-88C5-AE63526448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EAFF-698C-4206-8895-796FA519A5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CF29-9ABA-4C2C-AAA5-FBE0C768B1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9C49-5900-42F9-BE8F-1A7BBF27E9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1EF3-4FCA-489E-88BA-E2A303FC4A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ED66-D160-4230-A8A4-1516257AA4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72F7-64BA-40BC-BBC7-411EA337DD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8FF6-7197-4CAE-9FE5-1C245C7713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12DD-E2D5-4B5F-AC6F-5A4F51AD3E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A018-5B60-4A56-931A-FD9F9345DF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40E8-35D4-40B5-8EDE-B9273C37A3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A171-6A6B-48C7-A2D1-A53CD46C75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319B-84FC-497D-A663-4A5AFCDDA3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B963-C992-4A09-AD8C-473DA48CE1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3DA6-F0DB-433D-8F57-AD325234CE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BE65-4E75-4E26-9ECE-4E9525CD0B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DE6A-AC1A-4A0C-B9B4-300DE0F214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3319-2D2D-450E-B3B0-ECBA559273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6406-3747-4933-805F-D6605D37C9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FF8E-5BBC-4CC8-A300-835DA38D08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832B-D6E4-482A-88A7-BD8C7705F1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126F-CF89-4EFD-B7DB-B032604454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725F-8C9A-4477-8318-A66DC011A5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58CD-EF51-4BDF-A6E0-67ECCB6F89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3854-9482-4C75-85B1-D5E5503BE6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B914-B486-4AB9-A62F-DAA033D749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6EEB-BC55-4FB3-84D9-610E555DAD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1611-72F7-41E6-B5B9-D4BD810593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21D9-F314-4076-9F33-63D44C5D77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646E-2AE3-4687-83F6-B7F467B674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6E85-C4D0-4F31-BD29-1ECC2FC354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9582-B8A8-4AEC-B3E3-90A0254BBD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9220-3480-43F5-9155-CE34F60342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69AA-30A5-4481-A273-75A1420A8A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A49F-9093-480F-9004-DD54956B6F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6BC5-201D-4055-BD5C-8A2F1E9F1E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7F41-6063-4E78-A6CC-F60885DA21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6594-FE16-4DFE-8E78-6B132E6673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451B-0A21-4E0B-AF07-9A184819CE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8B0D-267E-4FC0-85F4-5930732370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9B1B-7FBF-4483-AA57-358C2EA9EC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4562-C33B-4B35-96A5-5A2F3B06FC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CF39-BA4A-4C91-95B2-D453B616D9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E6BE-3B17-4795-981A-98BEBFEC14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2A89-411F-46CA-8EFE-5D6590D93C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8572-C9EA-4266-9C3C-AB9CA4D69A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FFC5-53C9-4277-A3A2-D4512FC0AA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F0D5-FD4D-490E-A34D-078967EB95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3EA6-F9A3-434C-83DA-938D6706DB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A305-4262-4690-B869-E51738834A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D87D-8571-482C-ADCA-3670230E96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E23E-6A7C-4AD7-AD17-0FD52AE8F9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DE2D-3F52-4E73-9DE0-4C3DE3970C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E25B-7AFA-4A3E-896A-3E4266B481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EF46-594D-46C3-B97D-2764545CA7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46BB-4824-4273-A1DB-5346471FEE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5CA2-17E9-47C8-B2CA-E71845C3D8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0D2B-9B5F-472F-8DBC-D8F86B9E46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1BBF-60B1-4DDB-A491-0E4062C66F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A709-5395-4B1A-A0A0-1E1E101F00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044E-CE2F-4BCE-96D1-458366F66B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34DD-C619-455C-91B2-64544922AD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5649-0806-44E6-863C-0B5DEABD46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8B95-CFD2-4980-A1F1-C31DFFCA03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2759-C8DB-4000-8C6D-7C9BDB5644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6CE5-347D-467D-A5AF-8529802B0F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AA70-AE06-4F1E-A57B-B7C19AAAAB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E798-2411-4296-93DC-4663D3B719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2340-36CD-430B-8081-31AD705959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8B2E-4E04-4340-958C-25B8CEBCCF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7161-B5F2-444B-BA93-02C01CD41C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7BF0-57A8-4F65-96B4-9F8F5C49C8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13A1-7741-4AE8-833E-314B88DED1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014B-A993-4B6E-9DBA-7A20509F79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0C32-8C06-4934-8CD7-04A7587A9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305F-CFCD-454F-983D-86F87094F9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904E-FA65-4C9C-BFCF-B9F7898517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4AD9-6DBE-4977-ABC1-C84EE9E694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8A29-6A25-40FB-81B3-45F96EE553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EE25-3A88-4E29-9165-251416DC10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E33E-3E19-431F-8236-2FFADF9D40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9B42-8A06-4630-9EB0-21EE6F04C5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BF5F-FC10-4F69-A413-808536F3DB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C3F1-19C8-40AC-A697-BBA4933A68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45A7-1F75-4308-8398-60F12B9632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869-643F-44E8-A473-127976578B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C8DC-E87C-4FB5-9DFB-801A8E46BA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1465-4FA7-4643-9C11-AB64F48073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2E55-72BF-4BF2-A1B2-07E8AADDBF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6369-A3C4-491E-AA96-92D34B36E0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45EE-65D9-44CD-A2FD-4DFE757FCD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5BF3-88E7-4EC1-B50C-22164600EB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9523-7B5C-42E8-BE82-BECFB56AC3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91B5-05C9-42ED-8A98-C5D9DEB6EA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9453-8408-4C12-A74A-9EBF29A7A1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CB71-1A83-4E6F-BD6B-4A9E00D3DD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1C69-6709-4A02-BBB2-555F742285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AC7E-D1D3-4555-BC72-D3326CEC3E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AFD9-E167-4CC9-8954-A7651C51C2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B407-0D96-4C25-B787-509CDBEDC3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FCE4-2648-451D-A905-CCD2A4D79E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A833-FCD5-43B8-92D7-851A6306CC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362B-C20B-40CA-9966-74E9322FD8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944A-C92C-409A-9D86-4FF8E12944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74B2-72FD-4778-B8B6-1C47CD8FC9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F32C-3D85-4433-8FBA-D5A89A757D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309C-EE2F-4A58-B076-202C033D66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043A-107E-4BE2-8D84-0E830EF3CE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62A5-AEE7-4F12-92FD-489E44D061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AE1E-32A8-43CD-9646-F1F88545C6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5837-4959-469B-952B-F3F22C87D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765C-F32A-42D2-94E3-B02ED3E36E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083D-D4C2-4F2F-838D-C7935AE8F0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8E11-F4DF-46C1-9D83-9EBDCD4268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B118-8593-4895-8ADC-FE352E7CEB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542A-F35F-4F74-9CF3-D24587C557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86F3-C581-42D2-A949-107A01E084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0CF8-8790-4F9F-A1A2-71FB1D152F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D76C-79DB-4023-BC97-40B4A7F02D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CA76-5AC0-4FB1-8AB1-11165FEC94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0F10-A76D-4B5F-BB63-74A05B8EC7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2C96-3257-463C-B517-883BD9FA90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0F7D-E1E5-4D3E-9B0D-11D3196DDD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F953-574C-46EB-A2E9-EA0ED46257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7BE7-092A-4377-95C1-2AE73B26A5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335D-D8CB-4B0B-A86D-D6570C88E1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DFFF-A90A-4FE4-BE60-7B5FCC4F47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3F4F-026C-447B-B203-ECE715218C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2636-2BC2-4B71-A7A6-B456F158F3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58E4-00D6-40F4-864E-DC1B7F339D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8DD5-6460-490B-9F69-A8D2AA95D5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52B7-13D1-4728-9064-1006AF1437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D626-C79A-4470-9D50-C57B7996B2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59A3-A3A1-47A9-A51D-8252E38E70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DDD9-2D29-4D68-A3A0-91F2D8B6A4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C4C3-1D77-42F4-98B3-67601BE38C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C942-E60D-43DA-868F-CA7AE1389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2B4E-EA71-42AF-89C7-B41B810E91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9F00-EDE3-49CB-934C-47F5558482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8139-EEFA-44C6-9291-C37EEB3157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DD6E-453B-4618-8490-439F80DEC8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D598-0098-4241-BEBC-756E240838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2110-E6C5-4B53-9203-F9EEDAFE16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2751-2107-4955-AB20-27F81CE697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BF63-AC91-471F-8015-26F0CA43C1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34F3-568E-4A0C-94A7-9405D8C9C1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85CE-0FA3-4F76-91FA-A1D4F6FF98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8C9-1A0B-4491-8D98-E867CE2BEB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5C9F-67CE-4990-BE6D-9E9D804AD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7069-65BB-453B-A992-27465B15BA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9532-2384-43C7-ABF5-2A556CA487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5764-6C67-4159-8846-BEFD45F8B6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1250-F1C0-4F70-AF85-5CD8ACFDB4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29A0-EA13-417D-9DE2-FB164D841C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0AED-66B1-4F52-846B-A8ABA2DDF1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FEF4-8F88-49AE-A4C3-C39BC6CD55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22D4-705A-43FA-92E3-26729123CC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01BC-4A73-454E-A4F7-680EB0D8DB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0428-590C-4281-A6F8-BF62EDB3C2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2428-3401-40A5-A61D-7ADF56D2D97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B4FA-9546-451B-A950-AE63929A9E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A947-1BC3-40A1-8349-CD05BEE3F5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62D7-87B3-4123-86A4-AE3B69A026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4D32-E5EC-48A4-A6E3-664617F2A6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D4CB-BDCC-4AA7-BF63-70C55CB4CF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DEE3-4F3A-4AEE-9658-9484DC41B7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AB5F-710D-4DCB-8A00-26492FE47A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BED1-E750-4DAD-8ACA-3AA09B046C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3E0D-AC04-432D-9B8B-2DAD166A61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B27B-E663-4A4F-A6C9-4F1C12472A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8F6F-1621-4739-B90E-0444268F91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34D9-EFD9-433C-9233-78C03A3580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BBDD-5336-4BCE-B8E4-142F4262D7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8E2-E3BC-45DE-B8A6-F0A79E3247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6643-3100-4ECE-B2E9-6BCCC32076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9432-59CE-4D77-BA91-767B1D784F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9205-67AF-48EA-B75B-CC5F0E0613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6479-574F-4810-BBB4-87A870D46C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E25B-273A-433C-928A-DA9C35B5DD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0D46-A813-438A-A63A-3BD36A7232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FCD5-4455-4C99-B7DB-B24217B4DE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C318-82FD-419D-A0B4-0EECFECD55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E7ED-7EA7-47F8-800E-BBAE8DF5FF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7B9C-22E5-41D1-8F6A-75E549EE97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E981-D9E2-4A8E-9D3F-F28C1F74F9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1FA5-485B-4042-A440-1BA6F4645A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69D8-E087-450B-B97D-505459AFF6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CD8C-52EA-4C9E-957E-392C23A363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0327-D406-4EA0-85A9-2E9042E3DC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4D4E-F309-4282-A26D-0BED634314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EC9B-1A97-416A-B9A9-8DCECDB9A6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FECD-29BC-4F27-8C94-59FDD9B469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5007-9F8A-4FA9-A201-DBEFFA865E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559C-0F4C-4B1A-84B2-A139EDF2AE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3C5F-DB70-45F5-B3E0-474EB43ACB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CCBC-7CF4-4A96-B53A-C73D857587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FF8A-4FB5-4D66-9DE2-5D56F161D7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7ABC-912D-45B2-B9C7-23EF06B6E0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932F-6967-4E2D-A235-259E139D48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6424-94D5-4E4C-A4C2-8537C9ABE5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81E3-E4A0-4E66-B20F-5373E2CD7B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9EF4-1846-4702-90BF-15B2DF6CCB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1194-B7FB-49D8-ADC7-CD4C87EF71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B838-8943-40CC-B401-F425F941CC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2CDB-361B-4189-835C-CC0649E744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4EB4-3F69-4091-ABEB-B274830384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16D3-2E93-46E1-8CFB-3236BD71F0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9378-9433-4F5A-A16A-63C15083E7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9253-C47C-42D8-BD3A-24BC31C381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D681-FFCD-42E5-B2E8-E73D9B9391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4E88-0750-4156-8222-3673EC17EB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1907-3F2B-4071-AEF7-899919F341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FEA7-DA07-4044-BC8A-0A2EA383EF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7586-46C6-4786-A73D-554DAD3558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D3E5-568B-4D97-BF9B-D59BA982F1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114E-1E19-45EB-965A-89AF12404F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DE0F-D184-4725-A05F-262A59F9E8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F5EA-E3E7-4EFB-96DC-7D846BDC47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7C02-694A-4214-AB02-04125020AE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9170-E5A1-4D64-B902-B309D8E9B8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9D30-3B6B-42E8-AD8B-F999B0A503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660E-A7C9-4389-9667-38334403A7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2560-B9EE-4879-980D-D6E2D48E42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5ADC-3D75-477E-9A2F-1DEF4C8240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2DBF-8F2B-467A-B3E9-88DCB2F1A5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A0D-3717-4339-BB1D-05A889C225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082A-8AD7-493F-A4E8-E9ECD7EA62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CDFA-9018-46DD-89E4-CF33A790B4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F95A-3317-4DCF-A592-B7E6965DE9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32CE-634A-4B3C-AF01-9A3429624F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CF40-996D-46BA-9C25-0089EAA16D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CADA-D1FC-4A7B-BE52-288908DB3F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E9A8-DF69-481E-85C5-15F3BA67AA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B6D0-5E5D-4BE2-A7C8-D2130DBB1B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0B26-119F-4389-8DE5-D491F75E3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C6D0-5FD0-4711-9DF1-6958D4D7D6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53F3-11D5-4A27-A057-D873542690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4C3D-CBFE-422C-A2CC-6627864B73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D5D3-F68F-47A1-A601-D09A8441E7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B11F-308F-49F0-9D9C-B62F37CADF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E678-DBDB-4D75-9229-6ECEFB4FC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7086-E759-4342-8F71-F24FEC65C2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9870-FD03-4C4C-B319-13E282EC72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ACDC-DE0B-4ECB-AD5E-8DE3E02133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8921-7EF5-4B81-9062-69CE98FB78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1684-88B2-49FD-B9E0-BAF7C68C59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2616-71D3-4D11-A3CD-72E52A2E51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CF09-4569-43B4-8D06-AAD4EFA396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84E7-BB56-47D2-B8DC-FBC0CB8494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523D-8F73-48FF-90E7-5CD3011B6B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920D-29FF-40DC-9000-8BE8F6CBDC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F879-93BB-49D1-A58E-58C83AAFB2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8444-4D63-4C9C-9789-4956D8BC46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0D73-4B01-4F11-8AA3-5E56523846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0F59-7CAB-432C-986F-6D611590B0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64B9-F38B-439F-BC9B-36CCACB86D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F8E8-AB0C-4F1B-9C43-5DDE0452E8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A606-CD52-42ED-9055-7122760CFF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BF9C-840D-488C-970C-DEEBE7E108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90BA-3F6D-467C-A861-1B0158DE38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E166-A66F-44F8-9DAF-2B4597D1DB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0DBF-E659-4635-A3F2-924075294A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3696-512A-4521-9A9A-69F4F3A53F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4982-B38C-4414-89F0-8E3849084F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3BFB-B753-4E2B-9A9E-1FA558C406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D9B0-F928-46C6-AC70-E80C010070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EE46-DCFE-4CE7-A200-6DF7195206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B14C-274E-4E95-87BC-C5B1D4D18B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6257-1E02-413B-A9C9-1125F9FF43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16D9-7CE3-4143-90E1-92E4E06D8D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384F-A54B-4154-BC53-5D6B08AAE8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E40B-A696-4466-9BB3-0C16057270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C618-192F-4B13-B12C-A7E9CD76B8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6D57-3940-448D-AF85-D6FDF6955F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C427-67A0-4A7C-A8D6-763CB05744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0161-EA14-4DEC-93FF-7465134C030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832E-8BAE-40BB-A2B5-1A299755ED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5964-B050-4167-9041-6F3BE9BD08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1509-40A5-4270-AA2F-A3843F83D0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6C7A-5540-47FD-8EC8-DCC1063541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2B7A-C70B-43F5-92D2-4749B5EEEA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2A06-3BE3-40C7-A34C-9DD9BCCE6D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DFF3-2A2E-406C-867E-DD2995B1C2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5280-78CF-44AD-9D27-812E1F06A2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0BF2-BD0D-4B2D-B1B3-E4A613CCA8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BA7D-3185-4B6F-8319-76E292BD89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BAB7-6695-437D-947E-544A4A9C1E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3705-FAAC-4C28-B6BA-15857184F2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8296-83F4-451B-895C-A02A7AF078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AB65-6DBC-48EB-B62A-93611888F4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B46C-8B4D-4921-9843-96697F3408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0728-846D-48FB-816C-3D91F4EEF8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1A07-D72F-425A-97D9-5CC1AE9E5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343E-5ECB-4B2F-B3FD-B8AB51D5FE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2C97-5005-4C48-9CC2-002EDD8195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4929-2542-49FD-A566-7E3401EAEF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9F49-9675-468F-9F1B-BA3AB36C5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019C-C483-442E-A301-6B5A1F7FB1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3ECD-C998-4B78-9DC6-C997967F11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55AB-2911-4A48-A7E8-9D0178250C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60BB-CEDC-40A9-A074-0FD4FA3D6A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7249-25E7-4764-989D-4004EBF91A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D352-BCA9-487C-881A-226F613353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D0A1-9B0B-435F-8165-6817338AF8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749B-3806-493F-BB37-40BB7C4A0A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EC5A-267F-4000-9E2D-B2DE023DF4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6929-9079-4B70-B160-7F5230523C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28A7-49C0-41AA-8AE0-6B6EF94C79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3ABD-7243-403B-A875-A6EC20E55D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17C1-8546-47CD-AC30-16AF6724D1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24CB-7E02-48C8-BDE6-D0DDD03BE9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50EF-7E48-4412-B32C-85365CB093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F78D-7838-4A48-8277-3DAF0C3457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6127-BDC5-4156-A65D-72B531FE98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9554-D413-4657-AC5D-081828DB87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FE96-CD92-486E-95DB-9F76A450F2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4040-851B-41BA-8E15-CB52140908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782B-41D0-405E-8382-67DC6A656C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1863-9572-42BB-B89F-66A0698167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4331-60FE-4C90-9C36-EBA8C6BA73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D54A-5C73-4C0A-8C68-3BD21F781A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868D-BEAB-4870-B94D-3E2B083FFE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92A4-CB87-49EC-A2BB-3D182745BA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1DB0-3138-4222-8216-A000719BAC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1E6A-189C-4620-988B-BC5DD6C3CC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CEBB-20BA-4C3B-938C-FB43BBE097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8F53-364E-48E3-A968-428F5C3D4C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AD7-B9F0-418D-A5DE-061C3E5801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8CA8-C409-40DB-A901-D1BA9BE110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2F01-24C5-4507-9932-748A87D17C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9E2D-A11A-4D69-B091-CE83C2D312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BC12-C8D9-4C98-877D-751C5CBB87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A73A-36C0-4EA0-BE2E-E29030A994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CA97-D462-4BA7-ADA3-05F8E9646D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B0E-A4CD-40D9-A7FA-7BEE443C24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ADB1-876B-4B6E-B1EE-29BEA0B155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AF8F-0C0C-433D-8E90-BAAFA26B23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6469-3118-4C6A-AA6D-09B07181F0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BFB0-619E-48E2-992C-4A70D1924A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89B5-CA03-494C-AC80-0828B41312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6F01-954D-4F8D-9D6A-B53831FD46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50FD-BFFA-4AB4-B85B-30524152E0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C5FB-3E42-406E-805B-12CE7A89C9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337D-8B4F-4F2B-A025-15FC9EBC28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8AC5-DDEF-4AE8-AAF1-B2A3F8C42C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8E50-B38F-457C-AECC-CF4C548084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C8B7-7608-4BEE-8893-B46E758EE1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D2BE-FA0E-4B9A-BA60-9E1A8AA2CE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8417-E412-4167-B210-991726EEE4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4D94-ADEA-4473-B590-C66AEFEEF8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05B6-E4F6-4F35-9A94-25A892112C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5620-B703-4706-9E31-E224F53016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8A2D-8E5F-4940-99BC-194F8A41C5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EE11-D948-44EC-8229-041CCA8A35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E1AE-D40D-4D46-B705-391B58FA1F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CAB3-D8B1-4884-B55F-AFD92ACA0C8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E07A-0DE5-49EC-938E-DCDDD89DFF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1E72-E272-43B0-B060-255D0604AD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4571-A814-41F9-A261-C0604C7877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0F95-2561-4723-96BF-832837BCDB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5FE1-2C34-4AB5-8EE4-D1A7A9C179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2554-1ACE-47C3-9C60-ABD2EE8468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5AA5-8FCF-48E6-B5DB-69BC9FEBAD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DD90-5854-47F8-9AB4-C905E973FD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A5CA-129E-47FC-BC70-C7C7029522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708B-93EF-4679-B9AD-B54750F01F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7CD6-CF47-4ABD-A3A9-71F4D47A9E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59D5-6347-4F4C-9DD8-1E4E12CF89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8807-47D7-4326-8D41-BEA1D9EF2A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0F8A-2D39-4C55-9FA3-83FEA4775C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3E44-27F1-4FDE-B6E9-D1B3BC9B68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483A-DC63-4552-8DDA-241AFE185D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353C-88B0-48F6-B651-8005C30EC2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25F1-D124-48BE-B233-9AFFFDF78E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853F-2CEF-4926-AAAA-3E5DDE2294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FE9A-8C0D-4526-BCDB-1C52D3D8B82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75B5-F935-4FCD-85A5-5F952C94BC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DF04-5429-45D7-A9BA-5B2AE3CC07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34CD-0452-424F-91FA-03037CF3A8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D09C-1F47-402D-A494-FD30628066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D08F-4FD9-41A3-A0A6-1F77B88497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3897-6E16-4FF1-9485-18FE092375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A0F5-2831-4664-B8D0-2C4EF49C7D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1EFE-EDAE-4D00-99E1-B8081E624C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9DB4-85D8-41DA-9BBF-4CEA1A0EC6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B5AD-4F10-4EED-B53D-0187A1B0B8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5E0B-BE38-402D-B732-A2AF70F85D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7A87-949F-4999-B96A-A2F2278F0C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166C-AF2E-470E-B6FD-04BA2EA869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C119-CA14-4A23-9C17-A41352BD17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8F9F-FE89-4E5C-9C49-5B1C878042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2998-639F-4074-86B6-BC4B4DB651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6547-7597-4FFE-9811-E5ECF60451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7A2C-0030-4C80-B472-C375330054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0615-987F-40BD-9BD6-117C1175FB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3E5F-BAEC-48E4-9C94-3A8C479B95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C300-468E-416F-9D7C-4566B9DBD7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6224-33A7-4D94-B81A-A94D6BDDD1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9996-FA2E-4795-AD68-2A4C1DD2AB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E327-FB7E-4DDF-9D00-6343FA639B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0568-56F8-4020-93E2-836BA3569C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D2B8-40FE-4400-95F9-3B39D8313F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9C87-0546-4806-A0AC-A0FBC5E680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4E1E-1BEA-458B-B58E-E9356B46E8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81C3-1092-44FA-97AE-D31EF4DA08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3C5A-692D-4BA7-9B48-257621115C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7403-BCFF-4421-B7AF-C6A4597E4C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D20C-E471-41A2-842F-6EF3876FD9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C79E-18F7-4AB0-9709-607960D862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E55B-5B75-403F-BF92-3BE0B5861B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CF09-9ACE-4D99-9501-AB6326F664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CA22-0F70-4DBC-9120-09927D500A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5C14-4DFD-45C1-B373-9630C0DA0B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FFE5-5EC8-4D23-9D31-95ABD0D5809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3820-3481-45BE-BC78-5FE8BB902F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80D0-FFBB-4723-83A7-C7BF1F1670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7DF8-42D5-4595-B604-227F75A9EC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6E1-80CB-41D0-A587-D29EE05CB0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3C9F-84CB-4872-B8AA-8A398E0E41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4631-DA35-4012-A285-D443086467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06BA-8DBC-4AB9-83F3-E37C998AF5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478B-6D6B-48E3-9DBB-87C374E7AE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ADE4-7A69-42BA-AC14-60E48A24D0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7B06-44C7-4525-95F4-516617C6695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8867-003B-4B70-A96E-5804732509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AC2B-AB17-4859-B5BF-11A7BA6C34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0424-632C-44AD-A0BC-9A26192FAA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6C2A-0736-4577-B81E-E9FB7C2B2D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1CDE-9F67-4D64-B8BD-DA2F3472C5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C7E2-4448-4247-8055-36BB57795C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059D-2D5E-4AA4-9F79-639580E91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B82C-CBF8-40F5-9E69-93F5E83DAA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38BF-8BD1-4339-BA3B-5AE1DC7DAC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167F-4843-41BD-B416-8E27702784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3B1-339F-40B5-AC35-C581A8DB82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551E-65EC-483A-B9E4-07877800C2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2616-D626-45EF-8549-9F8BDA11C1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D819-EA1D-4306-A06B-115F213BF3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6713-6984-461B-B1AE-3A94586E6C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9E3C-E618-4E1B-B2BD-8B5CB47E4D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D056-0A47-4E9E-B85D-47B63D427D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31A4-F2DB-4266-96A0-C0433CE746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306B-AA6D-44EB-B065-F4D8F3C208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42A2-882A-4606-BB92-BA085A7F62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4BA7-D6B4-4763-B9EE-9C5D081AB0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D126-3FB5-4C50-AF42-A27AB45F95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9FEB-6F91-4A27-9E16-7948A68732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4338-C1BB-445B-A83F-9E1C05BE66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E233-7479-4806-A445-2F38CC360D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4F8A-6CA6-49E8-A8D2-B486BE1EC4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AD38-EBEE-4FE7-AD13-CC72D15443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37DB-8683-41A6-B067-9B26A9C77E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09E4-9513-46EF-8881-B4EEB2FAC9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0C4B-E4A5-4AB8-8A0E-9BCBEA4717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0886-C9FD-4490-A02D-9770345850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E1A1-B4AC-4BF4-ACDC-611BC17AE0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B792-526B-4FCC-87C5-63C45B4209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EED6-9F70-4C6A-9CBB-F4B867C25C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2DBC-B90A-406F-AE8F-9B246B2AE0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BAFD-E5FB-482F-842D-C8ACD84041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785B-3BA1-474F-91B6-AB1A6E4851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A9C4-7D75-420E-9E98-2D98A5F8BC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4F28-A539-44CB-BA3F-FABE6139F4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5CA-0750-4F1E-8AC9-970FA57568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6F4B-75BA-421E-9C11-A751551550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623-CA8B-4ACA-8D42-72ED120A5E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50A6-3CA8-4342-AE3C-C9432A1095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6598-1F19-41C8-A0BF-04CD563608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EC27-D3D8-44E4-BB48-91D0D4914D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D83B-B344-42B7-8C30-B6A5BF0C95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06B1-DEB7-4076-9DDF-7E58FD4807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B092-DE92-493A-B63E-4EF368D3C7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3E7B-26D2-4B43-ABF3-CC29EFC4D2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1960-B93B-47D1-ABFE-C73EBC78F4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70F7-A120-463E-9305-7674FA4332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B70B-A21D-41D4-B8BF-9C8917A14C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67B8-66BA-4457-B2B0-0D9CF78B25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87B6-41B6-43EF-BE30-B2A23449DF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1DAD-C796-491F-8F3C-4C130AE42D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AA47-8E11-4E10-94C0-48ECC0DEB6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4723-6CA4-4260-83A2-481142AD2D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C020-7EAF-47C2-9E76-BEF6610C98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D231-2160-4689-8178-C734FC4736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C1EC-A638-4EFD-8376-CA7ED048A9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0E81-F790-4E76-8722-6912C64D5A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D04D-98C4-484E-8E64-B8F6F38D17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4845-4600-406D-9CB3-801B098356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C579-69F6-4F04-8974-D7F1C9EDA5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806E-3BBA-40A1-B6F9-5F837BED2D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E2F9-AA82-4CEF-B7B4-F217760BED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EFBF-2AA5-476B-87CE-9916329DDC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C6F-3478-434E-82A6-121DAEB61A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485F-D198-4836-9776-809A8AD99B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61E9-FBAE-487A-8214-91659943C7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9D9D-0CE4-4E61-9CD1-ED778E8A05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9C40-9646-4BEB-AF87-9A8066B449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2341-D0D2-48B1-A9EC-D40C058C28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84C1-8B8B-4A2A-B0F2-E31BAA0786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12A1-36A8-41BE-8F36-DE930F1668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527C-39E9-4D02-A1FE-94BF33EDCD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145C-C1FC-45BF-BC8B-974B4620FE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117F-0F91-4454-B28B-8174727D16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0D0A-D296-47F3-A703-5E2A9BA847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25A0-A334-436A-89C6-92DE9146DC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BE5A-5200-4ADF-A370-36A0C7D931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A9C7-5852-405C-97BE-0C7EA4A128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DE84-88B4-4625-9833-43A2A24DE8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5AA5-F615-4ABD-B936-7F7DE42C83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6E11-40EA-49CE-83CC-C69E5F2982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D203-52DA-464B-AB67-2EA89952FE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F5E0-6E53-409C-8B56-7A9CBAB841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29FD-1A79-47A7-B106-40E763196D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0E18-7277-43D5-911A-7E4B5CDA23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D6A5-E2B1-4C5D-992B-339E82BCD3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71CC-7070-45EC-BE47-522ACFA53C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5E57-DEF0-44EB-AF95-345987D9A1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0B70-93F3-4BA2-800B-1F5E695E57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48CA-4E2F-4736-ADE4-7E6FAF2078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3DBE-43D9-4050-AD98-1CB4D7438E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EE62-6A74-456C-94EE-087DBA428D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21B4-0AC6-48C0-8464-A4E515CC5C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80FD-A2B4-43E6-AB8C-BA9240F469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267-FED7-4A17-AB08-04CD58B5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569-1E75-4EA9-A5F3-70762E71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E40-C3A4-4F20-B3D3-F8FA1F61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52C-994F-4539-AC27-626DD029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8BFB-9CD9-4B7A-835C-EA938C77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EDD7-15FC-497B-9F60-90CE0064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BE1D-B17D-45D4-82E1-49EF03DD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3935-380F-4275-8C2E-7F61B40D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AE65-8054-4BDB-82DE-1413DA5E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AD11-A64A-4911-885C-D016ACBB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3AB6-B2CE-4D7F-96D4-9F431AB7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108-D6F8-49F9-AF9C-5C6E5F70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6DD7-1EAB-4581-AA2F-5034435D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13F0-903F-4C4C-8556-2645C27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11B3-76E7-4943-B054-CE0EB0F2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102E-372A-42E6-B7AB-A118B19E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8437-A3B0-455A-96BF-25836691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707-E775-4ED1-A502-C68F6729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864-D79B-4DED-B69D-8336AE79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54D-45D0-4F74-9D20-FD33B26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0B1-0B71-486C-BD6E-84ECB3D4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1E9-3AA2-4FA2-895C-35ECE92F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107-07F3-499A-A1E7-0C9B4F29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1C9-DBA6-4EE0-8D71-C2C9130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349"/>
              </a:spcBef>
              <a:buSzPct val="176403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349"/>
              </a:spcBef>
              <a:buSzPct val="146906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349"/>
              </a:spcBef>
              <a:buSzPct val="146906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349"/>
              </a:spcBef>
              <a:buSzPct val="146906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4A05-A51D-4199-AC68-926DAE9EE9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BEAF-C1FF-4819-902E-C88D88FF9F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7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8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0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4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6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7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4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7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8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0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4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5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6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7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8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0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4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5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6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7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8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4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5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6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7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8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0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2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4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5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6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7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8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0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2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4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5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6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7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8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0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1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2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3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4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5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6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7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8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0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1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2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3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4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5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6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7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8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0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1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2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3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4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5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6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7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8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0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1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2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3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4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5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6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7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8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0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2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3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4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5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6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7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8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. The recommended activity levels for adults (CDHAC)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ing short sessions of different activities for a total of 60 minutes every day of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ing short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ing in vigorous activity that makes you “huff &amp; puff” for 30 minutes three to four day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ing in vigorous activity that makes you “huff &amp; puff” for 6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Combining short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. At rest, most of our energy comes fro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rbohyd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i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combination of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0.  An example of a medico-legal issue being raised by athletes taking legal performance enhancers such as creatine monohydrate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ffering an allergic reaction to the sub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being admitted to hospit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ing the administrative body for a “botched up” Series A samp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ffering an allergic reaction to the sub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dolescents are considered to have participated in adequate physical activity if the complete the follow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ctivities that use 3.5 ml/kg/min on at least 5 days of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ctivities that use 3.5 ml/kg/min for at least 30 minutes on at least 5 days of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3.5 hours of moderate-intensity activity over at least 5 sessions in a normal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3.5 hours of moderate-intensity activity over at least 5 sessions in a normal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6" dur="1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7"/>
          <p:cNvSpPr/>
          <p:nvPr/>
        </p:nvSpPr>
        <p:spPr>
          <a:xfrm>
            <a:off x="928800" y="857160"/>
            <a:ext cx="7377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2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The recommended activity levels for children and youth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60 minutes, every day of moderate to vigorous intensity across a wide range of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6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minutes, every second day of moderate intensity across a wide range of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9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minutes, every day of moderate to vigorous intensity across a wide range of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90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minutes, every second day of moderate intensity across a wide range of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923760" y="4952880"/>
            <a:ext cx="71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60 minutes ,every day of moderate to vigorous intensity across a wide range of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7"/>
          <p:cNvSpPr/>
          <p:nvPr/>
        </p:nvSpPr>
        <p:spPr>
          <a:xfrm>
            <a:off x="785880" y="100008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or older people, to achieve improved muscle strength and mobility, it is recommended that they participate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weight training 3 time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-weight baring activities such as swimming, cycling, water aerobics at least 5 time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veryday lifestyle activities such as garde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Box 8"/>
          <p:cNvSpPr/>
          <p:nvPr/>
        </p:nvSpPr>
        <p:spPr>
          <a:xfrm>
            <a:off x="785880" y="464328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Everyday lifestyle activities such as gardening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7"/>
          <p:cNvSpPr/>
          <p:nvPr/>
        </p:nvSpPr>
        <p:spPr>
          <a:xfrm>
            <a:off x="71424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ccelerometers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xpensive to use with large popul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-invas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terventions designed to engage “at risk” children and youth requi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munity sup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prehensive tailoring of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understanding of the target grou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Reminder systems (on phones, computers, post-its on walls, etc.) are essential strateg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ly when at the maintenance s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or anyone contemplating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y stage up to the action s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Any stage up to the action stag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is an example of an environmental intervention aimed at increasing physical activity level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nstructing bike trails and walking trac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ing playground facil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stalling showers and change facilities at workpla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8.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“Travelsmart” aims to increase physical activity across the settings of school, community and workpla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couraging walking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 preference to motor vehi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couraging the riding of bicycles in preference to mot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hi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couraging the use of public trans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7"/>
          <p:cNvSpPr/>
          <p:nvPr/>
        </p:nvSpPr>
        <p:spPr>
          <a:xfrm>
            <a:off x="85716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09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71424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. The ATP-PC system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Anaerob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Quick to supply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mited by the amount of available phosphocreat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Hypoglycaemi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eads to fatigue as a result of excessive muscle “shivering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s quickly reversed by taking in soluble sucro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ccurs when athletes call upon proteins as a fuel sour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ccurs when fat solubility is reduced as exercise intensity 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Is quickly reversed by taking in soluble sucro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1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Aerobic glycolys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duces energy faster than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n occur in the absence of oxy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akes over from anaerobic glycolysis when athletes hit the wall in events such as the marath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reaks down pyruvic acid to carbon dioxide and more energy via the Kreb’s 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Breaks down pyruvic acid to carbon dioxide and more energy via the Kreb’s 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predominant energy system used in the 400m sprint (athletics) is th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actacid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erob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LA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wimmers use more energy than runners to complete the same distances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use more muscles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re energy is required to remain afloat (buoyant) than it i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o maintain an upright pos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ater provides greater resistance than air to forward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oxygen deficit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rformers have had time to reach a “steady state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ATP is broken down anaerobical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amount of oxygen demanded is less than that able to be supplied by the cardiovascular &amp; respiratory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rformers train at high altitude and the air is “thin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ATP is broken down anaerobicall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Dehydration may lead to fatigu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ulting in an elevated body tempera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blood pressure and heart 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lowing down the transmission of nervous impulses through motor neur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n active recovery is how many times faster than a passive recovery at removing LA and restoring muscle pH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w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ree ti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ive ti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en Ti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Twic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gility is “made up” of the following compon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ed and 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wer and 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ed &amp; Flexi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alance &amp;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Speed &amp; Flexibilit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erobic capacity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same as cardio-respiratory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same as VO2 ma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same as cardio va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The same as VO2 max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1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 terms of data analysis, observation is not as good as using GPS data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t is obj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t is subj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t is opera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It is subj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. The energy system interplay is best described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the ATP-PC system, then the LA system and lastly the aerob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are used during play rather than 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collectively supply  ATP to working muscles in a sequential patte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collecting data, the best parameter to reflect energy system usage would b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kill Frequenc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eart Rate Patte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:R Infor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ocomotor Patte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Heart Rate Pattern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itness “norms”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ople called Norm who have high levels of fitness compared to the rest of the pop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good indicator of areas that need to be improv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ults considered to be typical for a particular population grou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Results considered to be typical for a particular population grou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most relevant test to assess the speed of a netball centre player would b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anding 55m spr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anding 15m spr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anding 40m spr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unning 40m spr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Standing 15m sprint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17 year old PE student (male) who gets a score of 14 cm in the sit and reach test would rate 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a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Aver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o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xcell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Excellent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principle of specificity aims to be specific to the following aspects observed in the gam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ergy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itness compon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uscles groups and actions u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7"/>
          <p:cNvSpPr/>
          <p:nvPr/>
        </p:nvSpPr>
        <p:spPr>
          <a:xfrm>
            <a:off x="857160" y="42876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example best highlights the training principle of “specificity”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road cyclist experiencing gains as a result of aerobic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raining completed on a stationary bi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sprint cyclist experiencing gains as a result of aerobic training completed on a stationary bi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shot putter experiencing gains as a result of anaerobic training completed using plyometric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1,500 m runner experiencing gains as a result of aerobic training completed on a stationary bi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A road cyclist experiencing gains as a result of aerobic training completed on a stationary bicycl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best example of short interval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 x 4 x 1,000 m runs with a w:r ratio of 1: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 x 2 x 1,000 m runs with a w:r ratio of 1: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None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Overload in a Fartlek session can be achiev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ing the intake of low GI foods immediately following the training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earing a backpack weighing 4 kil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unning the same distance in a faster time (under 10 minut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Wearing a backpack weighing 4 kilogram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ensible / feasible overload likely to bring about improvements should be in the rang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0-2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2- 4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8-10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&gt;20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8-10%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2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dividual load circuit training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etter than individual time circuit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impler to use than fixed load circuit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ighly specific to a person’s fitness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Highly specific to a person’s fitness level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. Once the lactate threshold is exceeded, the following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 becomes the major energy suppli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 is able to replenish energy stores now that it is not being used and “rest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ctive recovery should commence immediate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 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 the following resistance training ~ 4 x 3RM x 80kg, which component would primarily be develope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Power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ilates primarily aims to improv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lexi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C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Core stabilit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9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2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A catabolic training effect resul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destructive effect on body tiss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rebuilding effect on body tiss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squalification due to use of illegal practi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eight being gained via increased water absorp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A destructive effect on body tissu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“SAID” principle refer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cially Adapted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nal Driv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cific Adaptive Imposition Dema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cific Adaptation Imposed Dema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aches saying “I told you so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Specific Adaptation Imposed Demand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lyometrics will result in the following chang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ittle change to lactate thresho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glycolytic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actic acid tolerance results after 6+ months of anaerobic training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in the ventricle thickn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muscle’s alkaline production / reserv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OBL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Increasing the muscle’s alkaline production / reserv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 following is most likely to result from participation in continuous training progra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atrium si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maximal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Increased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arterio-venous oxygen difference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reater at sub-maximal levels when compared to resting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comparison of arterial oxygen levels compared to venous oxygen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direct measure of how much oxygen muscles are us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lyometric training will result in the following adaptation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“white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Increased PC stor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3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erobic training will lead to the following changes to a person’s lactate threshol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Inve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Increas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. Steady state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consumption reaches a maximum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Cori cycle starts to break down built up lactic acid and convert it to glycogen to be reu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heart and lungs have had sufficient time to supply working muscles with oxy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0.</a:t>
            </a:r>
            <a:r>
              <a:rPr b="1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sychological symptom(s) of overtraining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sturbed slee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od swi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d “drive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1.</a:t>
            </a:r>
            <a:r>
              <a:rPr b="1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Risk management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ppointing a manager who is prepared to take ris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nducting regular evacuation dr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owing players to take “calculated risk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ducing the likelihood of “things going wrong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64296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Reducing the likelihood of “things going wrong”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aches might contribute to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dopting an authoritarian approach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tending regular re-accreditation meeti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Using unqualified support staff that might be friends eve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is saves money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Using unqualified support staff that might be friends even this saves money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is a practical example of risk management to reduce injur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t allowing spectators to sit within a 2 m proximity of the playing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dding placed on goal po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tricting the amount of players allowed in certain parts of a playing area or fie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4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Risk management procedures extend beyond team management to facilities and equipment. The following must be taken into consideration in this are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vacuation/emergency procedu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ccess for all including disabled peop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Sign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5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Mental imagery can b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udito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act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Kinaesthe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Ethical considerations related to performance enhancement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set of moral val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ut in place to ensure fair participation exists for al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licies that must be strictly adhered to by all athle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A set of moral valu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affeine enhances performan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pressing cardiac output and “saving energy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cting as a diure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moting glycogen sparing via increased release of free fatty aci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Promoting glycogen sparing via increased release of free fatty acid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Ethical performers try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rive to achieve personal health as well as personal best performa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k equa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void dop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4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lostrum provides performance enhancing properties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amount of anaerobic power that can be genera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mproving the body’s immune system and protein synthesis mechanis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mproving the rate of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ing a quicker mechanism for catabolic reactions to occu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Improving the body’s immune system and protein synthesis mechanis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. The most likely cause of fatigue for a 100m sprinter (athletics)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C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owered muscle P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cumulation of iron(s) – Fe, Ph, Al, et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ctic Acid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C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foods are all suitable to be taken as part of a carbohydrate loading mea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rdial; low fat muffins; fried fis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kes; nuts; lenti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ggs, bacon; tomato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ereal; Low fat yoghurt; pas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Cereal; Low fat yoghurt; pasta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1. The recommended activity levels for adults (CDHAC)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ing short sessions of different activities for a total of 60 minutes every day of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ing short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ing in vigorous activity that makes you “huff &amp; puff” for 30 minutes three to four day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ing in vigorous activity that makes you “huff &amp; puff” for 6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2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9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7"/>
          <p:cNvSpPr/>
          <p:nvPr/>
        </p:nvSpPr>
        <p:spPr>
          <a:xfrm>
            <a:off x="928800" y="857160"/>
            <a:ext cx="5786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monitoring physical activity levels among populations, pedometers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ry accurate and very practic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ry practical but not highly accu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ry accurate but not very practic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derately practical and highly accu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TextBox 8"/>
          <p:cNvSpPr/>
          <p:nvPr/>
        </p:nvSpPr>
        <p:spPr>
          <a:xfrm>
            <a:off x="1000080" y="4429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Very practical but not highly accurat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7"/>
          <p:cNvSpPr/>
          <p:nvPr/>
        </p:nvSpPr>
        <p:spPr>
          <a:xfrm>
            <a:off x="785880" y="100008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considering the dimensions of physical activity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Verdana"/>
              </a:rPr>
              <a:t>context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refer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set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ho the person under consideration is with at the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here the physical activity is taking pl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785880" y="46432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7"/>
          <p:cNvSpPr/>
          <p:nvPr/>
        </p:nvSpPr>
        <p:spPr>
          <a:xfrm>
            <a:off x="714240" y="42876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“Active Kids, Healthy Kids” strategy has six components which aim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 the number of children and youth accumulating a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east 30 minutes of daily moderate-vigorous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 the number of children and youth accumulating at least 60 minutes of daily moderate-vigorous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 the number of children and youth accumulating at least 60 minutes of daily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 the number of children and youth accumulating at least 120 minutes of daily electronic media for entertain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Increase the number of children and youth accumulating at least 60 minutes of daily moderate-vigorous physical activit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5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 The following is an example of an intervention aimed at promoting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uilding bike tracks away from roa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mployer subsidised health club membershi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aving ads at cinemas that promote involvement in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person who is in the “Action” stage will be likely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in moderate intensity activity most (five) day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d follow an activity/exercise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in physical activity 3 time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eet the physical activity guidelines for at least 5 ye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ly need to be involved in physical activity twice per week to maintain their fitness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Participate in moderate intensity activity most (five) days and follow an activity/exercise plan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“Go for your Life” program aim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mprove eating hab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 levels of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mote involvement in community based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Many people are using pedometers to monitor their physical activity. Recommended totals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0,000 step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00,000 step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0,000 steps dai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,000 steps before breakfast followed by 2,000 steps before lunch and then 3,000 steps before di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10,000 steps dai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5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f students do not participate in physical activity at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are more likely to participate in physical activity outside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are less likely to join sporting clubs outside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are more likely to join sporting clubs outside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are less likely to participate in physical activity outside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TextBox 8"/>
          <p:cNvSpPr/>
          <p:nvPr/>
        </p:nvSpPr>
        <p:spPr>
          <a:xfrm>
            <a:off x="71424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They are less likely to participate in physical activity outside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. Following a 10 second interval sprint (max intensity) how long would it take to replenish fuel stores used in the work perio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seconds (1: 1 work : rest ratio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8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4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18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creased protein intak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eads to increased water loss via urin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splaces carbohydrates from the di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s often associated with increased fat intake via anima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ased foo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0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aerobic energy syste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aks at approx 70 seconds when athletes work maximally from the outset of exerci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eferentially uses fats as a fuel sour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s the predominant energy supplier in a 400 m sprint i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hletic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n only operate if exercise intensity remains between 70- 85% maximum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Peaks at approx 70 seconds when athletes work maximally from the outset of exerci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considering the energy system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aerobic system is the slowest to contribute to ATP resynthesis, but 40-50 times more powerful than the two combined anaerobic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C is adversely affected by the low pH caused when the LA system takes over energy pro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 system produces 5 times as much energy as the P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The aerobic system is the slowest to contribute to ATP resynthesis, but 40-50 times more powerful than the two combined anaerobic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0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aerobic system preferentially uses CHO’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ccur in a higher abundance in our bod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quire less oxygen than fats to release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reak down quicker than the CHO’s used by the P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Require less oxygen than fats to release energ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oxygen deb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s always equal to the oxygen deficit in terms of oxygen quant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Should be wiped out by G8 count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ccurs at the commencement of exercise when insufficient oxygen to provide energy aerobically is avail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s PC being restored and LA being broken dow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Sees PC being restored and LA being broken down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organic phosphates that result when PC is broken down to supply energy cause fatigu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ducing maximum cross-bridge forming for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locking the sarcoplamic reticulum mechanism and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eventing muscular contrac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fering with the Ca+ producing mechanism found in th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Reducing maximum cross-bridge forming forc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7"/>
          <p:cNvSpPr/>
          <p:nvPr/>
        </p:nvSpPr>
        <p:spPr>
          <a:xfrm>
            <a:off x="857160" y="42876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disruption to glycolytic enzymes will lead to fatigu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reliance on fats as a fuel sour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amount of LA that is produced due to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imiting the breakdown on glycogen to glucose and then resynthesis of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Limiting the breakdown on glycogen to glucose and then resynthesis of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lexibility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overall body phenomen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Joint specif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when muscles short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ffected by bone d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Joint specif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tennis player standing between the service line and net waiting to volley would need the following fitness component in trying try move quickly to get to a ball that clips, and just falls over the ne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Flexi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sychological Refractory Speed (PR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6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data would give the best indication of energy system interplay during an analysed game of netbal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kill frequen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vement Patte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eart Rate / Tr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:R rat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Heart Rate / Tr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. Males exhibit greater muscular strength than females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participation in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more unipennate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a higher percentage of fast-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ross sectional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ross sectional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0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Identify the energy system primarily responsible for delivery ATP during the 3rd High intensity eff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Aerob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ctacid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alactacid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The lactacid system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compared to maximal testing, sub-maximal testing i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re accu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ess accu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re expens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re time consum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Less accurat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RAST (running based anaerobic sprint test) is a good indicator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C restoration / Fatigu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PC restoration / Fatiguabilit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0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17 year old VCE P.E. student (male) who scores an 8% decrement in the PC recovery test would be rated 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o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elow Aver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ver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ry Go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Very Go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4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The 20 m shuttle run (beep test) favour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ople who aren’t dea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hletes who run rather than cycle as their main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ople who have a high PC depletion tole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eople who are agile and able to turn around at the end of 20m quicker than everyone el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Athletes who run rather than cycle as their main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0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Overload can be achieved by increasing the quality of training ~ this refers to increas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quality of the venue training occurs 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training intensity but still being specific to the game dema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raining with an accredited coa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Increasing the training intensity but still being specific to the game dema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0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“law of diminishing returns” states th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more training an athlete does the quicker improvements will occu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ce a meso-cycle has been completed, an athlete needs to diminish training loa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s fitness gains are made, athletes need to train at diminished intens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s an athlete improves as a result of training the gains will become smaller and smal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s an athlete improves as a result of training the gains will become smaller and smal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best example of a correct short interval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8 x 3 x 80 m runs with a w:r ratio of 1: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10 x 4 x 1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3 x 8 x 100 m runs with a w:r ratio of 1: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8 x 3 x 80 m runs with a w:r ratio of 1: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8. “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Overload in a Fartlek session can be achiev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frequency of the intense bur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distance cover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unning the same distance but with more hills included (in the same tim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7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Fixed load circuit training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etter than individual time circuit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impler to use than individual load circuit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ighly specific to a person’s fitness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Simpler to use than individual load circuit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. Anaerobic power is a measur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’s ability to produce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’s ability to produce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bility of the anaerobic systems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bility of the anaerobic systems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allistic stretching is often used by gymnasts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vements are highly specific to the demands of competi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are highly train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y perform on shock absorbing flo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Movements are highly specific to the demands of competition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 the following exercise / resistance prescription training ~ 4 x 3RM x 80kg, the 3RM represents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istance Modu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eight that can only be worked with 3 times during a particular exercise /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Weight that can only be worked with 3 times during a particular exercise / m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9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2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wiss ball training primarily develop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lexi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C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warm-up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muscle tempera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epares players for the activity they are about to participate in (physically &amp; mentall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flow of blood and fuels to working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4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To achieve maximum fitness gains, increased work / loading needs to occur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highest point in the undercompensation ph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owest point in the overcompensation ph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highest point in the overcompensation ph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owest point in the undercompensation ph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The highest point in the overcompensation phas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no training adaptations result the athlete wil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eed to carefully consider using illegal performan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hancing practi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xperience a plate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eed to taper and reduce training loa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st likely look for another coach or trai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Experience a plate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erobic training resul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oxidative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numbers of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 following is most likely to result from participation in an aerobic training program lasting 12+ mon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ventricle siz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d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d maximal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d a-VO2 differ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Increased ventricle siz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0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arterio-venous oxygen difference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reater at sub-maximal levels when compared to maximal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indirect measure of how much oxygen muscles are us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direct measure of how much oxygen muscles are us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A direct measure of how much oxygen muscles are us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89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erobic training has the following effect on tidal volum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mains relatively unchang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Increas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0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. The most important fitness component for a 1,500m swimmer performing a tumble turn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action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Bal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erobic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ong interval training will result in the following chronic changes to slow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“red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oxidative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myosin ATP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Increased oxidative enzyme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1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Overtraining can be treated by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earning self-regulation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generative strategies such as massage and breathing techniq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owing adequate recovery/rest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TextBox 8"/>
          <p:cNvSpPr/>
          <p:nvPr/>
        </p:nvSpPr>
        <p:spPr>
          <a:xfrm>
            <a:off x="64296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2. Risk management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Identif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Re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Avoid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3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Risk management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ppointing a manager who is prepared to take ris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the risk so the rewards are potentially grea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dentifying hazards and controlling associated ris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stablishing  contextual problem solving approa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Identifying hazards and controlling associated risk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0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4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aches might avoid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suring all players are involved in warm-up and warm-down sess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tending regular re-accreditation meeti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Using qualified support staff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5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The following is an example of risk management to reduce injur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dopting a “no pain no gain” understanding amongst all players to build un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aving mixed ability levels playing together in an open competition to encourage impr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Codes of behaviour and conduct for players, coaches and official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couraging immediate return to playing to avoid losing conditioning following an inju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Codes of behaviour and conduct for players, coaches and official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6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Stress inoculation training enhances performan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mot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duc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Enhanc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Reducing arousal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7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reatine supplementation enhances performan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PC resynthesis during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Buffering H+ ions under anaerobic exercise cond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moting DVT ( Dilated Venous Transferral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Increasing PC resynthesis during recovery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8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sotonic drinks are favoured by many athlet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 the body with better muscle t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re absorbed quicker than wa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 a balance between rehydration and refuell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Provide a balance between rehydration and refuell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199.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“Choking” leads to performance deterioration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ecreased ability to shift attention foc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hifting focus to internal and narro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egative self-tal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7"/>
          <p:cNvSpPr/>
          <p:nvPr/>
        </p:nvSpPr>
        <p:spPr>
          <a:xfrm>
            <a:off x="928800" y="857160"/>
            <a:ext cx="5786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. The physical activity pyramid encourages peopl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most in Level 2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most in Level 3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least in Level 1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least in Level 4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1000080" y="4429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least in Level 4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. The purpose of conducting a games analysi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ork out the important fitness compon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ider the interplay of energy systems during the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ide on how to best prepare / train for the actual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0.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way of reducing future risks and injuries occurring in sport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Using the SIPP strategy (Sports Injury Prevention Progra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dopting injury surveillance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ocussing more on skill develop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 Adopting injury surveillance systems</a:t>
            </a: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0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1. School settings-based programs for promoting physical activity are superior to workplace and community setting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e a combination of social influ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a captive audience – i.e. schooling is compulsory until 15 years of 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incorporate policy into any promotion strateg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TextBox 8"/>
          <p:cNvSpPr/>
          <p:nvPr/>
        </p:nvSpPr>
        <p:spPr>
          <a:xfrm>
            <a:off x="457200" y="48769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_x001a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3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0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2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Box 7"/>
          <p:cNvSpPr/>
          <p:nvPr/>
        </p:nvSpPr>
        <p:spPr>
          <a:xfrm>
            <a:off x="928800" y="857160"/>
            <a:ext cx="578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2. Aerobic glycolys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ould be very important to a 200m run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ynthesizes ATP quicker than anaerobic glycolysi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witches to fats when carbohydrates are     running lo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oesn’t result in harmful by-produ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TextBox 8"/>
          <p:cNvSpPr/>
          <p:nvPr/>
        </p:nvSpPr>
        <p:spPr>
          <a:xfrm>
            <a:off x="1000080" y="4429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oesn’t result in harmful by-produ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7"/>
          <p:cNvSpPr/>
          <p:nvPr/>
        </p:nvSpPr>
        <p:spPr>
          <a:xfrm>
            <a:off x="785880" y="100008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3. The following is an example of an objective measure of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GPS uni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irect observatio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Physical Activity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TextBox 8"/>
          <p:cNvSpPr/>
          <p:nvPr/>
        </p:nvSpPr>
        <p:spPr>
          <a:xfrm>
            <a:off x="785880" y="464328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. A GPS un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7"/>
          <p:cNvSpPr/>
          <p:nvPr/>
        </p:nvSpPr>
        <p:spPr>
          <a:xfrm>
            <a:off x="71424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4. An athlete with low levels of fitness will experience proportionately greater gains in fitness than an athlete who is fitter can be explained by: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w of proportional retu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w of inverse proportiona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w of diminishing retu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aw of proportional retu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The law of diminishing retu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0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5. Stage 6 of the “Stages of Change” model is known as the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Terminatio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stage which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s performers meet the NPAG guidelines for a minimum of 24 mon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s performers being physically active most nights of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s performers reduce the amount of physical activity to maintain fitness gai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ees performers involved in regular physical activity for a period of more than 5 ye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es performers involved in regular physical activity for a period of more than 5 ye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0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6. The following is an example of a “constructed environment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walking track around a school ov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playgrou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skate bowl and ram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All of the abov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All of the abov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0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7. The following would occur after 12 months of plyometrics train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glycolytic capa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muscle buffering 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energy substrat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8. Biofeedback is used to enhance performan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moting improved foc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duc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reating life-like imag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ducing arou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09. Creatine supplementatio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the rate of PC resynthe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the rate of PC split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phosphory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sults is osmotic efflux at the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TextBox 8"/>
          <p:cNvSpPr/>
          <p:nvPr/>
        </p:nvSpPr>
        <p:spPr>
          <a:xfrm>
            <a:off x="71424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s the rate of PC resynthe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0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. The most appropriate fitness tests on offer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i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Val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eva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0. At sub-maximal intensity, most of our energy comes fro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luco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arbohyd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dipo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Gluco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0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1. The ATP-PC system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duces more ATP than the aerobic energy system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Has a greater yield of ATP than the LA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duces ATP at a slower rate than the glycolty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None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None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0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2. The energy system interplay is best described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three systems work in a sequential man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P is interdependent of ADP rel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xygen supply can meet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_x0016_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0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3. Once the lactate threshold is exceeded, the following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_x0016_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IP balances with BL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entilation decreases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 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0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4. Steady state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deficit is greater than oxygen deb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demand is greater than oxygen supp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consumption equal carbon dioxide pro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5. The most likely cause of fatigue for a 400m sprinter (athletics)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H+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Pi+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Na+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+ accumulatio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0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6. Following a 10 second interval sprint (max intensity) how long would it take to replenish fuel stores used in the work perio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1 minu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2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3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4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3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7. Protein is mainly used fo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ATP resynthe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Repair of hair follicle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Athletes who have depleted their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Muscle growth and repa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Muscle growth and repa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0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8. Anaerobic capacity is a measur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How much glycogen is used in the Kreb’s cyc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The infinite amount of energy the lactic acid system can produ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The finite amount of energy  the anaerobic systems can prov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finite amount of energy  the anaerobic systems can prov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0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19. The most important fitness component for a 1,500m swimmer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Flexi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Local 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Local 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. The most specific test to assess the agility of a tennis player would be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llinois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rvar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rgarita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0. The purpose of conducting a games analysi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Determine which components of fitness are importa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Identify areas for impro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Design a series of fitness tests to be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0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5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1. The most appropriate fitness tests on offer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Norm referenc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Val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Activity specif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2. The most specific test to assess the agility of a pole vaulter would be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The Semo agility te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_x0016_Ben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The Illinois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The shoulder hyperextension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Ben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3. Males would be expected to score better in  beep test than femal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Have bigger hear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Have higher lung capac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Have more blo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0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4. A training year can be broken down into smaller sections such as “pre-season”, “competition” and “off-season”. These are examples of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Privatisatio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Local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0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5. The recommended frequency for athletes seeking aerobic training improvement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3-4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2-3 times / week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1-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6. Any “plateau” during a training program indicat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Steady st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Over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Specifi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0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7. The modified pull up tests is useful to measure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: Alactacid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Local 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Local 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0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8. “Fartlek” train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Was named after the Swedish cross country champion Sven Far Tl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_x0016_Trains both aerobic and anaerobic energy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Has a work to rest ratio larger than long interval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Trains both aerobic and anaerobic energy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0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29. Plyometrics are exemplified by the following group of activit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Dodges, weaves and directional chang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Maximal contractions applied over a period of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0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. Males would be expected to score better on the vertical jump test than femal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in more than fem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ssess greater ankle flexibility and can generate greater push off as a result of th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 more football than girls and this is an action specific to the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0. Plyometrics can be overload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Increasing the height and depth of jum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Increasing the number of repetitions perform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Jumping whilst wearing a back pack filled with 5kg s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1. In the following exercise prescription for resistance training ~ 4 x 8 x 80kg, the 80 repres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The weight of the perform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The 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The over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The repl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The 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0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19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2. The following is most likely to result from participation in an aerobic training program lasting 12+ m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Increased anabolic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Increased catabolic proces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Increased catalytic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None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3. Increased myoglobin levels resulting from aerobic conditioning / training assis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Moving more oxygen away from the intercostals to working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_x0016_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Moving more carbon dioxide from the right ventricle to the lu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Moving arteriovenous oxygenated blood back to the alveo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0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4. Shin splints are an exampl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Over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Overloa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Overcompensa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Overarching princip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Over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0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5. Aerobic training has the following effect on muscle oxygen deliver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Absorbs mo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In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0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6. Short interval training will result in the following chronic change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Increased FFA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Increased glycolytic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Increased oxidative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Increased glycolytic enzy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7. Continuous training will result in the following chronic changes to slow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: Increased nervous transmi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: Increased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: _x0016_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0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8. Short interval training will result in the following adaptations to the LIP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Regul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Remain the s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Decr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Incr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fill="hold">
                      <p:stCondLst>
                        <p:cond delay="0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39. Training with high intensity/loads and low repetitions will generally result in greater change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Fast 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low 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Medium 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Fast 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0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. A training year can be broken down into smaller sections such as “pre-season”, “competition” and “off-season”. These are examples of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icr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i-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0. Massage assists recovery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ing blood flo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Preventing venous pool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Facilitating removal of metabolic by-produ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fill="hold">
                      <p:stCondLst>
                        <p:cond delay="0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5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1. The most effective way of monitoring training response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Listen carefully to your personal trai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Conduct post te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Video your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TextBox 8"/>
          <p:cNvSpPr/>
          <p:nvPr/>
        </p:nvSpPr>
        <p:spPr>
          <a:xfrm>
            <a:off x="64296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0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2. The following is a strategy that can be used for 1:1 counsell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Contrac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dentifying opportunities to be a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Enlisting social sup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0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3. Groups most at risk of being physically inactive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White collar work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Racial and ethnic minor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High SES grou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Racial and ethnic minor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4. Relapse is most likely to occur at the following stag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A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Precontemp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Termin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0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5 Someone suffering from pre-game “jitters” should use the following strategy to get to a better psychological stat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Progressive muscle relo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Elevated breathing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Energising muscle contrac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rogressive muscle relo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24" dur="indefinite" restart="never" nodeType="tmRoot">
          <p:childTnLst>
            <p:seq>
              <p:cTn id="1725" dur="indefinite" nodeType="mainSeq">
                <p:childTnLst>
                  <p:par>
                    <p:cTn id="1726" fill="hold">
                      <p:stCondLst>
                        <p:cond delay="0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6. Caffeine is often taken by endurance performers to enhance their performances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Promoting glycogen spa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Providing an acid-base bal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Being a diure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ssisting thermo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Promoting glycogen spa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0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7. A psychlogical sign of overtraining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Loss of competitive dr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Loss of appeti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Loss of muscle to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Loss of competitive dr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8. Direct observ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s most effective in the workplace set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llows for collection of contextual infor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s time effici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Is unobtrus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llows for collection of contextual infor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0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49. EPO is often taken by endurance athletes despite being banned by WADA. Side-effect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Decreased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naem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Flatul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0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. The recommended frequency for athletes seeking aerobic training improvement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7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0.  An example of a medico-legal issue being raised by athletes taking legal performance enhancers such as creatine monohydrate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hletes suffering an allergic reaction to the sub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 doctor being removed from the medical practitioner’s boar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thlete’s not knowing what they were being given and the side eff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0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1. The recommended activity levels for adults (CDHAC)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bining long sessions of different activities for a total of 6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bining short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bining short sessions of different activities for a total of 6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bining continuous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Combining short sessions of different activities for a total of 30 minutes five days per week (minimum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4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fill="hold">
                      <p:stCondLst>
                        <p:cond delay="0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5" dur="1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7"/>
          <p:cNvSpPr/>
          <p:nvPr/>
        </p:nvSpPr>
        <p:spPr>
          <a:xfrm>
            <a:off x="928800" y="857160"/>
            <a:ext cx="5786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2. The physical activity pyramid encourages peopl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most in Level 1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least in Level 1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most in Level 4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articipate least in Level 4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1000080" y="4429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rticipate least in Level 4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Box 7"/>
          <p:cNvSpPr/>
          <p:nvPr/>
        </p:nvSpPr>
        <p:spPr>
          <a:xfrm>
            <a:off x="785880" y="100008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3. The following is an example of an objective measure of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NOW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CISC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785880" y="46432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. 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0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7"/>
          <p:cNvSpPr/>
          <p:nvPr/>
        </p:nvSpPr>
        <p:spPr>
          <a:xfrm>
            <a:off x="71424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4. For overweight and obese individuals, to prevent weight regain once weight is los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60 minutes of physical activity accumulated in as many sessions as possi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30-6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60-9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90-12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60-9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5 Oxygen deficit occur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Only occurs at the beginning of an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Equals oxygen deb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When the aerobic system kicks 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When oxygen supply is less than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When oxygen supply is less than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0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7"/>
          <p:cNvSpPr/>
          <p:nvPr/>
        </p:nvSpPr>
        <p:spPr>
          <a:xfrm>
            <a:off x="826920" y="40464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6 EPOC allows for the following to occur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Lactate to be converted to 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Thermogenic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Kreb’s cycle phosphory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Lactate to be converted to 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7. The aerobic energy system has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Greatest yield of ATP pro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Highest rate of ATP pro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Greatest reliance on ATP gene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Highest oxygen cost per mole of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Greatest yield of ATP pro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fill="hold">
                      <p:stCondLst>
                        <p:cond delay="0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8. The fitness components are mainly reliant upon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ATP-PC energy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LA energy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erobic energy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PC-ATP energy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TP-PC energy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18" dur="indefinite" restart="never" nodeType="tmRoot">
          <p:childTnLst>
            <p:seq>
              <p:cTn id="1819" dur="indefinite" nodeType="mainSeq">
                <p:childTnLst>
                  <p:par>
                    <p:cTn id="1820" fill="hold">
                      <p:stCondLst>
                        <p:cond delay="0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59. Maximal test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s highly accu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volves a lengthy recovery peri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s conducted until physiological failure / fatigu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TextBox 8"/>
          <p:cNvSpPr/>
          <p:nvPr/>
        </p:nvSpPr>
        <p:spPr>
          <a:xfrm>
            <a:off x="71424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25" dur="indefinite" restart="never" nodeType="tmRoot">
          <p:childTnLst>
            <p:seq>
              <p:cTn id="1826" dur="indefinite" nodeType="mainSeq">
                <p:childTnLst>
                  <p:par>
                    <p:cTn id="1827" fill="hold">
                      <p:stCondLst>
                        <p:cond delay="0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1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. Any “plateau” during a training program indicat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thlete needs to be thinking about “tapering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“steady State” has been achiev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0. Underload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Overload is applied and then “backed off” a little bit later in the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Training intensity is reduced leading up to competi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 workload becomes easier and fails to produce further improv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Training become painful and recoveries take long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workload becomes easier and fails to produce further improv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2" dur="indefinite" restart="never" nodeType="tmRoot">
          <p:childTnLst>
            <p:seq>
              <p:cTn id="1833" dur="indefinite" nodeType="mainSeq">
                <p:childTnLst>
                  <p:par>
                    <p:cTn id="1834" fill="hold">
                      <p:stCondLst>
                        <p:cond delay="0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1. Swiss ball training is used to develop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Wrist extens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Hip flex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M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C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Core st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0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Box 7"/>
          <p:cNvSpPr/>
          <p:nvPr/>
        </p:nvSpPr>
        <p:spPr>
          <a:xfrm>
            <a:off x="85716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2. The energy system interplay is best described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The LIP is increa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P is released from the anaerobic energy systems and then the aerobic system kicks 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P is released from all 3 energy systems, but only when the previous one has run o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0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3. Once the lactate threshold is exceeded, the following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LIP remains above aerobic threshol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TP is resynthesised from available fu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LIP cannot remove excess H+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 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0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4. Steady state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Respiratory levels equal ventilatory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Oxygen demand meets L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EPOC occurs during a warm-dow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0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5. The most likely cause of fatigue for a 200m butterfly swimmer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Neuro muscular bloc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Depletion of 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ccumulation of H+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Depletion of NaCl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Accumulation of H+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67" dur="indefinite" restart="never" nodeType="tmRoot">
          <p:childTnLst>
            <p:seq>
              <p:cTn id="1868" dur="indefinite" nodeType="mainSeq">
                <p:childTnLst>
                  <p:par>
                    <p:cTn id="1869" fill="hold">
                      <p:stCondLst>
                        <p:cond delay="0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3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6. The following practice could potentially lead to injuries during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appropriate choice of training metho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llowing players to train whilst injur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nadequate maintenance of equip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74" dur="indefinite" restart="never" nodeType="tmRoot">
          <p:childTnLst>
            <p:seq>
              <p:cTn id="1875" dur="indefinite" nodeType="mainSeq">
                <p:childTnLst>
                  <p:par>
                    <p:cTn id="1876" fill="hold">
                      <p:stCondLst>
                        <p:cond delay="0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7. Keeping a training log ensu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Goals can be reviewed and revi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juries can be linked to specific events or behavio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Careful monitoring of training progress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0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8. Athletes take illegal performance enhancing drugs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They want to push the lim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 win: win mindset exi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They believe they can get away with 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Testing is rand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They believe they can get away with 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0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69. Low GI foods are best consume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After each station in a circu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Before a 2 hour endurance ev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fter a 2 hour endurance ev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Before an event requiring quick release of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efore a 2 hour endurance ev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95" dur="indefinite" restart="never" nodeType="tmRoot">
          <p:childTnLst>
            <p:seq>
              <p:cTn id="1896" dur="indefinite" nodeType="mainSeq">
                <p:childTnLst>
                  <p:par>
                    <p:cTn id="1897" fill="hold">
                      <p:stCondLst>
                        <p:cond delay="0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. The best example of long interval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0 x 2 x 1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0 m runs with a w:r ratio of 1: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,000m runs with a w:r ratio of 1: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0. The purpose of conducting a games analysi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ork out the important fitness compon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ider the interplay of energy systems during the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ide on how to best prepare / train for the actual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1. The most appropriate fitness tests on offer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i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Val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eva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fill="hold">
                      <p:stCondLst>
                        <p:cond delay="0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5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2. The most specific test to assess the agility of a tennis player would be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llinois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rvar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rgarita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0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3. Males would be expected to score better on the vertical jump test than femal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in more than fem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ssess greater ankle flexibility and can generate greater push off as a result of th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 more football than girls and this is an action specific to the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23" dur="indefinite" restart="never" nodeType="tmRoot">
          <p:childTnLst>
            <p:seq>
              <p:cTn id="1924" dur="indefinite" nodeType="mainSeq">
                <p:childTnLst>
                  <p:par>
                    <p:cTn id="1925" fill="hold">
                      <p:stCondLst>
                        <p:cond delay="0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4. A training year can be broken down into smaller sections such as “pre-season”, “competition” and “off-season”. These are examples of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icr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i-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0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5. The recommended frequency for athletes seeking aerobic training improvement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7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fill="hold">
                      <p:stCondLst>
                        <p:cond delay="0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6. Any “plateau” during a training program indicat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Training needs to tap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 rest perio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 period of hyperplas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0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7. The best example of circuit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Fixed 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dividual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ndividual 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Fixed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Individual 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0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8. “Fartlek” train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Heavily calls up 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Mainly works the LA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s primarily aerobic ba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Means “fart” play and adds variety to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s primarily aerobic ba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58" dur="indefinite" restart="never" nodeType="tmRoot">
          <p:childTnLst>
            <p:seq>
              <p:cTn id="1959" dur="indefinite" nodeType="mainSeq">
                <p:childTnLst>
                  <p:par>
                    <p:cTn id="1960" fill="hold">
                      <p:stCondLst>
                        <p:cond delay="0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4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79. When returning to injury following an injury it is important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Think posi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Conduct a functional assessment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Place athletes under game cond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nduct a functional assessment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0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. “Fartlek” train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be overloaded by completing the same distance in a slower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also knows as “playing with spe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quires rest periods to restore P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0. Plyometrics can be overload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ing the number of reps by  about 1/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creasing the number of repetitions up to 10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Decreasing the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Decreasing the rest in between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creasing the number of repetitions up to 10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1. In the following exercise prescription for resistance training ~ 4 x 8 x 80kg, the 8 repres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79" dur="indefinite" restart="never" nodeType="tmRoot">
          <p:childTnLst>
            <p:seq>
              <p:cTn id="1980" dur="indefinite" nodeType="mainSeq">
                <p:childTnLst>
                  <p:par>
                    <p:cTn id="1981" fill="hold">
                      <p:stCondLst>
                        <p:cond delay="0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5" dur="19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2. The following is most likely to result from participation in an aerobic training program lasting 12+ m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ed oxygen production by the diaphrag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creased respiratory quotient (RQ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Decreased maximal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Decreased sub maximal heart 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Decreased sub maximal heart 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fill="hold">
                      <p:stCondLst>
                        <p:cond delay="0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3. Increased myoglobin levels resulting from aerobic conditioning / training assis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Moving more oxygen from the lungs to the capilla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Moving more oxygen from the alveolar capsules to the tribronchial sac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fill="hold">
                      <p:stCondLst>
                        <p:cond delay="0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4. An increased stroke volume will lead to 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ed cardiac out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creased gaseous exchan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ncreased arterial elasti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Increased a-VO2 dif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Increased cardiac out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0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5. Cross training will allow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A  5000m runner to become a good 100m sprin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 100m sprinter to become a good 5000m run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A 1500m swimmer becoming a good springboard di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 springboard diver becoming a good 1500m swimm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 100m sprinter to become a good 5000 run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07" dur="indefinite" restart="never" nodeType="tmRoot">
          <p:childTnLst>
            <p:seq>
              <p:cTn id="2008" dur="indefinite" nodeType="mainSeq">
                <p:childTnLst>
                  <p:par>
                    <p:cTn id="2009" fill="hold">
                      <p:stCondLst>
                        <p:cond delay="0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6. Short interval training will result in the following chronic change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creased contractil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ncreased w:r rat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Increased fatigue 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14" dur="indefinite" restart="never" nodeType="tmRoot">
          <p:childTnLst>
            <p:seq>
              <p:cTn id="2015" dur="indefinite" nodeType="mainSeq">
                <p:childTnLst>
                  <p:par>
                    <p:cTn id="2016" fill="hold">
                      <p:stCondLst>
                        <p:cond delay="0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7. To determine the effectiveness of intervention programs it is important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Conduct pre-intervention and post-intervention te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Conduct surveys after the intervention has been in pl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Use appropriate PA measu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Measure objectives and perceived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onduct pre-intervention and post-intervention te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8. Choking can best be overcom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Stress inoculation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hifting focus from external to internal stimu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Positive self-tal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0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89. Reactivity considers how much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A behaviour is changed due to an assessment being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omeone’s personal space is affec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Contextual change results from observ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A behaviour is changed due to an assessment being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0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. Plyometrics are exemplified by the following group of activit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kipping, max push ups in 60 seconds, running on the spot for 30 seconds (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x 20 m sprints every 45 seconds followed by 15 x 15m sprints every 3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0. The amount of physical activity occurring in a sport education class would best be measured by us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SA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OS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S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S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42" dur="indefinite" restart="never" nodeType="tmRoot">
          <p:childTnLst>
            <p:seq>
              <p:cTn id="2043" dur="indefinite" nodeType="mainSeq">
                <p:childTnLst>
                  <p:par>
                    <p:cTn id="2044" fill="hold">
                      <p:stCondLst>
                        <p:cond delay="0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1. The most effective way of monitoring training response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Use doubly labelled wa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Conduct post-tes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Validate the training protoc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TextBox 8"/>
          <p:cNvSpPr/>
          <p:nvPr/>
        </p:nvSpPr>
        <p:spPr>
          <a:xfrm>
            <a:off x="64296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49" dur="indefinite" restart="never" nodeType="tmRoot">
          <p:childTnLst>
            <p:seq>
              <p:cTn id="2050" dur="indefinite" nodeType="mainSeq">
                <p:childTnLst>
                  <p:par>
                    <p:cTn id="2051" fill="hold">
                      <p:stCondLst>
                        <p:cond delay="0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2. Relapse is best described 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Receding during action s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Stage 4 in the Transtheoretical mod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Losing self-effica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Moving back to another s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Moving back to another st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56" dur="indefinite" restart="never" nodeType="tmRoot">
          <p:childTnLst>
            <p:seq>
              <p:cTn id="2057" dur="indefinite" nodeType="mainSeq">
                <p:childTnLst>
                  <p:par>
                    <p:cTn id="2058" fill="hold">
                      <p:stCondLst>
                        <p:cond delay="0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3. Coaches might contribute to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Not listening to the assistant coach(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Dividing team players into positional pl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Forcing players to take pain kill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63" dur="indefinite" restart="never" nodeType="tmRoot">
          <p:childTnLst>
            <p:seq>
              <p:cTn id="2064" dur="indefinite" nodeType="mainSeq">
                <p:childTnLst>
                  <p:par>
                    <p:cTn id="2065" fill="hold">
                      <p:stCondLst>
                        <p:cond delay="0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4. Risk management procedures extend beyond team management to facilities and equipment. The following must be taken into consideration in this are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Providing mentors for players when away from the sporting are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Minimising the risk of the club being su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Care of spectat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fill="hold">
                      <p:stCondLst>
                        <p:cond delay="0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5. The following is a practical example of how AFL football teams try to prevent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Random drug tes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Mandatory 1 game breaks following concu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0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3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6. Community setting based program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e access to affordable exercise/recreational facil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Encourage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Support physical activity media campaig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84" dur="indefinite" restart="never" nodeType="tmRoot">
          <p:childTnLst>
            <p:seq>
              <p:cTn id="2085" dur="indefinite" nodeType="mainSeq">
                <p:childTnLst>
                  <p:par>
                    <p:cTn id="2086" fill="hold">
                      <p:stCondLst>
                        <p:cond delay="0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7. The following drink allows quickest absorption and hydr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Hyper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Hyperchlor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Gator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8. Dehydration will cause fatigu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Increasing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Increasing heart 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Redistributing blood away from working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98" dur="indefinite" restart="never" nodeType="tmRoot">
          <p:childTnLst>
            <p:seq>
              <p:cTn id="2099" dur="indefinite" nodeType="mainSeq">
                <p:childTnLst>
                  <p:par>
                    <p:cTn id="2100" fill="hold">
                      <p:stCondLst>
                        <p:cond delay="0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299. EPO is often taken by endurance athletes despite being banned by WADA. Side-effect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Blood borne disease transmi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Air embolism (bubbl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Increased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05" dur="indefinite" restart="never" nodeType="tmRoot">
          <p:childTnLst>
            <p:seq>
              <p:cTn id="2106" dur="indefinite" nodeType="mainSeq">
                <p:childTnLst>
                  <p:par>
                    <p:cTn id="2107" fill="hold">
                      <p:stCondLst>
                        <p:cond delay="0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1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7"/>
          <p:cNvSpPr/>
          <p:nvPr/>
        </p:nvSpPr>
        <p:spPr>
          <a:xfrm>
            <a:off x="785880" y="100008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. The following is an example of an objective measure of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art rate monito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report lo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ysical activity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785880" y="464328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 Heart rate monito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. Plyometrics can be overload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ing the weight and increasing the 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est and decreasing the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0. Carbohydrate loading would most benefit the following athlet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A: 1500 m swimm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B: 3000m run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C: Triathle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D: Pole vault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Triathle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12" dur="indefinite" restart="never" nodeType="tmRoot">
          <p:childTnLst>
            <p:seq>
              <p:cTn id="2113" dur="indefinite" nodeType="mainSeq">
                <p:childTnLst>
                  <p:par>
                    <p:cTn id="2114" fill="hold">
                      <p:stCondLst>
                        <p:cond delay="0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1. Reactivity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ere physical activity is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evel at which a measure influences physical activity behaviou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pleting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igorous activity that makes you “huff &amp; puff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evel at which a measure influences physical activity behaviou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5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fill="hold">
                      <p:stCondLst>
                        <p:cond delay="0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5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8" dur="1" fill="hold"/>
                                        <p:tgtEl>
                                          <p:spTgt spid="7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Box 7"/>
          <p:cNvSpPr/>
          <p:nvPr/>
        </p:nvSpPr>
        <p:spPr>
          <a:xfrm>
            <a:off x="928800" y="857160"/>
            <a:ext cx="7388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2. Validity refer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sts/measures that aren’t affected by memory limita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ow accurate a measure 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bility of a test/measure to be repeated under similar cond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degree to which a test/measurement measures what it sets out to measu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TextBox 8"/>
          <p:cNvSpPr/>
          <p:nvPr/>
        </p:nvSpPr>
        <p:spPr>
          <a:xfrm>
            <a:off x="1000080" y="4429080"/>
            <a:ext cx="767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degree to which a test/measurement measures what it sets out to measu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29" dur="indefinite" restart="never" nodeType="tmRoot">
          <p:childTnLst>
            <p:seq>
              <p:cTn id="2130" dur="indefinite" nodeType="mainSeq">
                <p:childTnLst>
                  <p:par>
                    <p:cTn id="2131" fill="hold">
                      <p:stCondLst>
                        <p:cond delay="0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5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Box 7"/>
          <p:cNvSpPr/>
          <p:nvPr/>
        </p:nvSpPr>
        <p:spPr>
          <a:xfrm>
            <a:off x="785880" y="100008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3. The following is an example of an subjective measure of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art rate monito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celeromet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ysical activity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TextBox 8"/>
          <p:cNvSpPr/>
          <p:nvPr/>
        </p:nvSpPr>
        <p:spPr>
          <a:xfrm>
            <a:off x="785880" y="46432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ysical activity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36" dur="indefinite" restart="never" nodeType="tmRoot">
          <p:childTnLst>
            <p:seq>
              <p:cTn id="2137" dur="indefinite" nodeType="mainSeq">
                <p:childTnLst>
                  <p:par>
                    <p:cTn id="2138" fill="hold">
                      <p:stCondLst>
                        <p:cond delay="0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Box 7"/>
          <p:cNvSpPr/>
          <p:nvPr/>
        </p:nvSpPr>
        <p:spPr>
          <a:xfrm>
            <a:off x="71424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4. An advantage of using heart rate monitoring to assess physical activity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vides a strong link to energy expendi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ables quick and easy data coll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vides a good description of several dimensions of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43" dur="indefinite" restart="never" nodeType="tmRoot">
          <p:childTnLst>
            <p:seq>
              <p:cTn id="2144" dur="indefinite" nodeType="mainSeq">
                <p:childTnLst>
                  <p:par>
                    <p:cTn id="2145" fill="hold">
                      <p:stCondLst>
                        <p:cond delay="0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9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5. Stage 5 of the “Stages of Change” model is known as the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Maintenance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stage which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ows participants to temporarily “drop out” of physical activity for a period of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es performers incorporating physical activity as part of their lifestyle and meeting the guidelines for at least six mon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only be experienced when Stage 4 has been met for at least 3 mon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es performers incorporating physical activity as part of their lifestyle and meeting the guidelines for at least six mon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0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6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6. The following is not an example of a “constructed environment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kate park next to a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ynthetic walking/running  track placed around a shopping cent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hade sail placed above the sand pit in the primary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5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57" dur="indefinite" restart="never" nodeType="tmRoot">
          <p:childTnLst>
            <p:seq>
              <p:cTn id="2158" dur="indefinite" nodeType="mainSeq">
                <p:childTnLst>
                  <p:par>
                    <p:cTn id="2159" fill="hold">
                      <p:stCondLst>
                        <p:cond delay="0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3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7. When critiquing strategies used at the population level to promote physical activity, the following must be considere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ducational programs to support social and environmental chang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oval of impedi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ailoring of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64" dur="indefinite" restart="never" nodeType="tmRoot">
          <p:childTnLst>
            <p:seq>
              <p:cTn id="2165" dur="indefinite" nodeType="mainSeq">
                <p:childTnLst>
                  <p:par>
                    <p:cTn id="2166" fill="hold">
                      <p:stCondLst>
                        <p:cond delay="0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8. The most effective school based setting physical activity promoting strateg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Department of Education printed material outlining physical activity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e only P.E. teachers take sporting te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e P.E. uniforms compulso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TextBox 8"/>
          <p:cNvSpPr/>
          <p:nvPr/>
        </p:nvSpPr>
        <p:spPr>
          <a:xfrm>
            <a:off x="785880" y="485784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Department of Education printed material outlining physical activity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fill="hold">
                      <p:stCondLst>
                        <p:cond delay="0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7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09. A benefit associated with having a physically active group of office worker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KPI’s (Key Performance Indicator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bsentee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staff turno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mount of overtime comple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TextBox 8"/>
          <p:cNvSpPr/>
          <p:nvPr/>
        </p:nvSpPr>
        <p:spPr>
          <a:xfrm>
            <a:off x="714240" y="485784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staff turno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fill="hold">
                      <p:stCondLst>
                        <p:cond delay="0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4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. In the following exercise prescription for resistance training ~ 4 x 8 x 80kg, the 4 repres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day of the week training is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9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0. During sub-maximal activity lasting 20 minutes, most of our energy comes fro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rbohyd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i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combination of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rbohyd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85" dur="indefinite" restart="never" nodeType="tmRoot">
          <p:childTnLst>
            <p:seq>
              <p:cTn id="2186" dur="indefinite" nodeType="mainSeq">
                <p:childTnLst>
                  <p:par>
                    <p:cTn id="2187" fill="hold">
                      <p:stCondLst>
                        <p:cond delay="0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1. The ATP-PC system h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igh yie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igh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ow yie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finite PC sour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 : High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92" dur="indefinite" restart="never" nodeType="tmRoot">
          <p:childTnLst>
            <p:seq>
              <p:cTn id="2193" dur="indefinite" nodeType="mainSeq">
                <p:childTnLst>
                  <p:par>
                    <p:cTn id="2194" fill="hold">
                      <p:stCondLst>
                        <p:cond delay="0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2. The energy system interplay is best described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the ATP-PC system, then the LA system and lastly the aerob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collectively supply  ATP to working muscles in a sequential patte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are used during play rather than 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supplied by all 3 energy systems, but one produces more ATP than the oth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supplied by all 3 energy systems, but one produces more ATP than the oth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99" dur="indefinite" restart="never" nodeType="tmRoot">
          <p:childTnLst>
            <p:seq>
              <p:cTn id="2200" dur="indefinite" nodeType="mainSeq">
                <p:childTnLst>
                  <p:par>
                    <p:cTn id="2201" fill="hold">
                      <p:stCondLst>
                        <p:cond delay="0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5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3. Once the lactate threshold is exceeded, the following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 becomes the major energy suppli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 is able to replenish energy stores now that it is not being used and “rest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st ATP resynthesis occurs as a result of 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drogen ions rapidly accumul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drogen ions rapidly accumul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06" dur="indefinite" restart="never" nodeType="tmRoot">
          <p:childTnLst>
            <p:seq>
              <p:cTn id="2207" dur="indefinite" nodeType="mainSeq">
                <p:childTnLst>
                  <p:par>
                    <p:cTn id="2208" fill="hold">
                      <p:stCondLst>
                        <p:cond delay="0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4. Steady state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consumption reaches a sub-maximum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Cori cycle starts to break down built up lactic acid and convert it to glycogen to be reu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cardiovascular and respiratory systems are in equilibri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13" dur="indefinite" restart="never" nodeType="tmRoot">
          <p:childTnLst>
            <p:seq>
              <p:cTn id="2214" dur="indefinite" nodeType="mainSeq">
                <p:childTnLst>
                  <p:par>
                    <p:cTn id="2215" fill="hold">
                      <p:stCondLst>
                        <p:cond delay="0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9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5. The most likely cause of fatigue for a 400m sprinter (athletics)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C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owered muscle P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cumulation of muscle lact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ctic Acid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cumulation of muscle lact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20" dur="indefinite" restart="never" nodeType="tmRoot">
          <p:childTnLst>
            <p:seq>
              <p:cTn id="2221" dur="indefinite" nodeType="mainSeq">
                <p:childTnLst>
                  <p:par>
                    <p:cTn id="2222" fill="hold">
                      <p:stCondLst>
                        <p:cond delay="0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6. Following a 30 second interval sprint (max intensity) how long would it take to replenish fuel stores used in the work perio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seconds (1: 1 work : rest ratio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2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27" dur="indefinite" restart="never" nodeType="tmRoot">
          <p:childTnLst>
            <p:seq>
              <p:cTn id="2228" dur="indefinite" nodeType="mainSeq">
                <p:childTnLst>
                  <p:par>
                    <p:cTn id="2229" fill="hold">
                      <p:stCondLst>
                        <p:cond delay="0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3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7. Males exhibit greater  aerobic capacity than females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participation in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larger lung capac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a higher percentage of slow-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lveolar cross sectional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TextBox 8"/>
          <p:cNvSpPr/>
          <p:nvPr/>
        </p:nvSpPr>
        <p:spPr>
          <a:xfrm>
            <a:off x="785880" y="485784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larger lung capac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34" dur="indefinite" restart="never" nodeType="tmRoot">
          <p:childTnLst>
            <p:seq>
              <p:cTn id="2235" dur="indefinite" nodeType="mainSeq">
                <p:childTnLst>
                  <p:par>
                    <p:cTn id="2236" fill="hold">
                      <p:stCondLst>
                        <p:cond delay="0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8. Anaerobic power is a measur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’s ability to produce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’s ability to produce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lactacid system’s ability to produce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naerobic energy systems ability 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naerobic energy systems ability 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41" dur="indefinite" restart="never" nodeType="tmRoot">
          <p:childTnLst>
            <p:seq>
              <p:cTn id="2242" dur="indefinite" nodeType="mainSeq">
                <p:childTnLst>
                  <p:par>
                    <p:cTn id="2243" fill="hold">
                      <p:stCondLst>
                        <p:cond delay="0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19. The most important fitness component for a diver performing a double somersault with half twist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action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erobic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48" dur="indefinite" restart="never" nodeType="tmRoot">
          <p:childTnLst>
            <p:seq>
              <p:cTn id="2249" dur="indefinite" nodeType="mainSeq">
                <p:childTnLst>
                  <p:par>
                    <p:cTn id="2250" fill="hold">
                      <p:stCondLst>
                        <p:cond delay="0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4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. The following is most likely to result from participation in an aerobic training program lasting 12+ m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rdiac out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0. The purpose of conducting a games analysi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termine the different playing z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ocate votes for elite perform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ide on how to best prepare / train for the actual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ide on how to best prepare / train for the actual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fill="hold">
                      <p:stCondLst>
                        <p:cond delay="0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1. The most appropriate fitness tests on offer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i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Val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pecif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pecif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62" dur="indefinite" restart="never" nodeType="tmRoot">
          <p:childTnLst>
            <p:seq>
              <p:cTn id="2263" dur="indefinite" nodeType="mainSeq">
                <p:childTnLst>
                  <p:par>
                    <p:cTn id="2264" fill="hold">
                      <p:stCondLst>
                        <p:cond delay="0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2. The most specific test to assess the agility of a football player would be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llinois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rvar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rgarita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llinois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69" dur="indefinite" restart="never" nodeType="tmRoot">
          <p:childTnLst>
            <p:seq>
              <p:cTn id="2270" dur="indefinite" nodeType="mainSeq">
                <p:childTnLst>
                  <p:par>
                    <p:cTn id="2271" fill="hold">
                      <p:stCondLst>
                        <p:cond delay="0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5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3. Males would be expected to score better on the vertical jump test than femal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in more than fem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ssess greater ankle flexibility and can generate greater push off as a result of th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 more football than girls and this is an action specific to the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76" dur="indefinite" restart="never" nodeType="tmRoot">
          <p:childTnLst>
            <p:seq>
              <p:cTn id="2277" dur="indefinite" nodeType="mainSeq">
                <p:childTnLst>
                  <p:par>
                    <p:cTn id="2278" fill="hold">
                      <p:stCondLst>
                        <p:cond delay="0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2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4. Plyometric training best develop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5. The recommended frequency for athletes seeking to maintain aerobic capacity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7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90" dur="indefinite" restart="never" nodeType="tmRoot">
          <p:childTnLst>
            <p:seq>
              <p:cTn id="2291" dur="indefinite" nodeType="mainSeq">
                <p:childTnLst>
                  <p:par>
                    <p:cTn id="2292" fill="hold">
                      <p:stCondLst>
                        <p:cond delay="0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6. Any “plateau” during a training program indicat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thlete needs to be thinking about “tapering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vertraining is occurring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“steady State” has been achiev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0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7. The best example of short interval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x 10 x 10 m runs with a w:r ratio of 1: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0 m runs with a w:r ratio of 1: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,000m runs with a w:r ratio of 1: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TextBox 8"/>
          <p:cNvSpPr/>
          <p:nvPr/>
        </p:nvSpPr>
        <p:spPr>
          <a:xfrm>
            <a:off x="785880" y="485784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x 10 x 10 m runs with a w:r ratio of 1: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8. “Fartlek” train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be overloaded by reducing the work : rest rat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also knows as “playing with spe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quires rest periods to restore PC and remove H+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11" dur="indefinite" restart="never" nodeType="tmRoot">
          <p:childTnLst>
            <p:seq>
              <p:cTn id="2312" dur="indefinite" nodeType="mainSeq">
                <p:childTnLst>
                  <p:par>
                    <p:cTn id="2313" fill="hold">
                      <p:stCondLst>
                        <p:cond delay="0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7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29. Plyometrics are exemplified by the following group of activit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kipping, max push ups in 60 seconds, running on the spot for 30 seconds (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ternating upper body with lower body parts for consecutive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x 20 m sprints every 45 seconds followed by 15 x 15m sprints every 3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0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. Increased myoglobin levels resulting from aerobic conditioning / training assis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porting more oxygen around the vascular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venting the myoglotic stretch reflex (less slow twitch muscle trai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Box 7"/>
          <p:cNvSpPr/>
          <p:nvPr/>
        </p:nvSpPr>
        <p:spPr>
          <a:xfrm>
            <a:off x="857160" y="428760"/>
            <a:ext cx="7962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0. Plyometrics can be overload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weight and decreasing the 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ing the weight and increasing the 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est and decreasing the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fill="hold">
                      <p:stCondLst>
                        <p:cond delay="0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1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Box 7"/>
          <p:cNvSpPr/>
          <p:nvPr/>
        </p:nvSpPr>
        <p:spPr>
          <a:xfrm>
            <a:off x="857160" y="428760"/>
            <a:ext cx="796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1. In the following exercise prescription for resistance training ~ 4 x 8 x 80kg, the 8 repres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day of the week training is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32" dur="indefinite" restart="never" nodeType="tmRoot">
          <p:childTnLst>
            <p:seq>
              <p:cTn id="2333" dur="indefinite" nodeType="mainSeq">
                <p:childTnLst>
                  <p:par>
                    <p:cTn id="2334" fill="hold">
                      <p:stCondLst>
                        <p:cond delay="0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19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2. The following is most likely to result from participation in an aerobic training program lasting 18+ m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diastolic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cardiac out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3. Increased myoglobin levels resulting from aerobic conditioning / training assis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porting more oxygen around the vascular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venting the myoglotic stretch reflex (less slow twitch muscle trai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46" dur="indefinite" restart="never" nodeType="tmRoot">
          <p:childTnLst>
            <p:seq>
              <p:cTn id="2347" dur="indefinite" nodeType="mainSeq">
                <p:childTnLst>
                  <p:par>
                    <p:cTn id="2348" fill="hold">
                      <p:stCondLst>
                        <p:cond delay="0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2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4. Aerobic training results in decreases to the systolic blood pressure at sub-maximal intensities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LDL’s and reducing plaque build up on the inside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iprocal increases in diastolic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53" dur="indefinite" restart="never" nodeType="tmRoot">
          <p:childTnLst>
            <p:seq>
              <p:cTn id="2354" dur="indefinite" nodeType="mainSeq">
                <p:childTnLst>
                  <p:par>
                    <p:cTn id="2355" fill="hold">
                      <p:stCondLst>
                        <p:cond delay="0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5. Aerobic training has the following effect on diaphragm  oxygen consumption during sub-maximal intensit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ains relatively unchang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60" dur="indefinite" restart="never" nodeType="tmRoot">
          <p:childTnLst>
            <p:seq>
              <p:cTn id="2361" dur="indefinite" nodeType="mainSeq">
                <p:childTnLst>
                  <p:par>
                    <p:cTn id="2362" fill="hold">
                      <p:stCondLst>
                        <p:cond delay="0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6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6. Short interval training will result in the following chronic change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“white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67" dur="indefinite" restart="never" nodeType="tmRoot">
          <p:childTnLst>
            <p:seq>
              <p:cTn id="2368" dur="indefinite" nodeType="mainSeq">
                <p:childTnLst>
                  <p:par>
                    <p:cTn id="2369" fill="hold">
                      <p:stCondLst>
                        <p:cond delay="0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3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7. Continuous training will result in the following chronic changes to slow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 aerobic force capa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use of FFA’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use of FFA’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74" dur="indefinite" restart="never" nodeType="tmRoot">
          <p:childTnLst>
            <p:seq>
              <p:cTn id="2375" dur="indefinite" nodeType="mainSeq">
                <p:childTnLst>
                  <p:par>
                    <p:cTn id="2376" fill="hold">
                      <p:stCondLst>
                        <p:cond delay="0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0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8. Short interval training will result in the following adaptations to lactic acid tolera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reliance of glucose as a fu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buffering 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acid-base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buffering 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81" dur="indefinite" restart="never" nodeType="tmRoot">
          <p:childTnLst>
            <p:seq>
              <p:cTn id="2382" dur="indefinite" nodeType="mainSeq">
                <p:childTnLst>
                  <p:par>
                    <p:cTn id="2383" fill="hold">
                      <p:stCondLst>
                        <p:cond delay="0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7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39. Training with moderate intensity/loads and high repetitions will generally result in greater change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88" dur="indefinite" restart="never" nodeType="tmRoot">
          <p:childTnLst>
            <p:seq>
              <p:cTn id="2389" dur="indefinite" nodeType="mainSeq">
                <p:childTnLst>
                  <p:par>
                    <p:cTn id="2390" fill="hold">
                      <p:stCondLst>
                        <p:cond delay="0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4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. Aerobic training results in decreases to the systolic blood pressure (except at max effort)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LDL’s and reducing plaque build up on the inside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iprocal increases in diastolic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0. Massage assists recovery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ing blood flow to 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amount of oxygen transported to vital orga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ate of waste removal fro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ate of waste removal fro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95" dur="indefinite" restart="never" nodeType="tmRoot">
          <p:childTnLst>
            <p:seq>
              <p:cTn id="2396" dur="indefinite" nodeType="mainSeq">
                <p:childTnLst>
                  <p:par>
                    <p:cTn id="2397" fill="hold">
                      <p:stCondLst>
                        <p:cond delay="0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1. The most effective way of preventing overtraining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y to remember everything undertaken during a week of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Listen” to what your body is saying to you by the way it fe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mploy a personal trai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TextBox 8"/>
          <p:cNvSpPr/>
          <p:nvPr/>
        </p:nvSpPr>
        <p:spPr>
          <a:xfrm>
            <a:off x="64296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dia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02" dur="indefinite" restart="never" nodeType="tmRoot">
          <p:childTnLst>
            <p:seq>
              <p:cTn id="2403" dur="indefinite" nodeType="mainSeq">
                <p:childTnLst>
                  <p:par>
                    <p:cTn id="2404" fill="hold">
                      <p:stCondLst>
                        <p:cond delay="0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8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2. Injury risk management system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gular playing equipment chec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-game examination of playing fiel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ing a safe distance between players and spectat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3. Coaches might contribute to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first aid kits are available at every training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listing the support of non paid qualified staf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16" dur="indefinite" restart="never" nodeType="tmRoot">
          <p:childTnLst>
            <p:seq>
              <p:cTn id="2417" dur="indefinite" nodeType="mainSeq">
                <p:childTnLst>
                  <p:par>
                    <p:cTn id="2418" fill="hold">
                      <p:stCondLst>
                        <p:cond delay="0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4. Risk management procedures extend beyond team management to facilities and equipment. The following must be taken into consideration in this are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correct ratio of medical staff to players in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ers are kept up to date with latest injury prevention tre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coaches regularly “upskill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23" dur="indefinite" restart="never" nodeType="tmRoot">
          <p:childTnLst>
            <p:seq>
              <p:cTn id="2424" dur="indefinite" nodeType="mainSeq">
                <p:childTnLst>
                  <p:par>
                    <p:cTn id="2425" fill="hold">
                      <p:stCondLst>
                        <p:cond delay="0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9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TextBox 7"/>
          <p:cNvSpPr/>
          <p:nvPr/>
        </p:nvSpPr>
        <p:spPr>
          <a:xfrm>
            <a:off x="857160" y="42876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5. The following is a practical example of how AFL football teams try to prevent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players participate in accredited courses so they’ll have a job when they finish play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ers wearing helmets to avoid serious head injuries (similar to NFL footballer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new pre-season training methods that have worked with in the USA for NFL footballers but haven’t been trialled he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30" dur="indefinite" restart="never" nodeType="tmRoot">
          <p:childTnLst>
            <p:seq>
              <p:cTn id="2431" dur="indefinite" nodeType="mainSeq">
                <p:childTnLst>
                  <p:par>
                    <p:cTn id="2432" fill="hold">
                      <p:stCondLst>
                        <p:cond delay="0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6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6. The following strategy can assist enhancing performance by building or maintaining confide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cue words regularly that are spoken to self or called o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Walking the talk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king an injury to upset an opponent’s concent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cue words regularly that are spoken to self or called o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0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3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7. The following drink is associated with the slowest rates of absorption and hydr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a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u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44" dur="indefinite" restart="never" nodeType="tmRoot">
          <p:childTnLst>
            <p:seq>
              <p:cTn id="2445" dur="indefinite" nodeType="mainSeq">
                <p:childTnLst>
                  <p:par>
                    <p:cTn id="2446" fill="hold">
                      <p:stCondLst>
                        <p:cond delay="0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8. Minerals are important in assisting performance PB’s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ssisting in water loss to help with thermo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ding to the amount of ATP that can be produc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the Essential Electrolytic Balance (EEB) is maintain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0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7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49. EPO is often taken by endurance athletes despite being banned by WADA, in an effort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 oxygen delivery to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 RBC’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58" dur="indefinite" restart="never" nodeType="tmRoot">
          <p:childTnLst>
            <p:seq>
              <p:cTn id="2459" dur="indefinite" nodeType="mainSeq">
                <p:childTnLst>
                  <p:par>
                    <p:cTn id="2460" fill="hold">
                      <p:stCondLst>
                        <p:cond delay="0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4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. Aerobic training has the following effect on ventilatory muscle oxygen consumption at the diaphragm &amp; intercostal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ains relatively unchang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0.  An example of a medico-legal issue being raised by athletes taking legal performance enhancers such as painkiller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formers having a neural block that spreads beyond the affected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formers developing a addiction to the dru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having an allergic reaction to the painkiller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65" dur="indefinite" restart="never" nodeType="tmRoot">
          <p:childTnLst>
            <p:seq>
              <p:cTn id="2466" dur="indefinite" nodeType="mainSeq">
                <p:childTnLst>
                  <p:par>
                    <p:cTn id="2467" fill="hold">
                      <p:stCondLst>
                        <p:cond delay="0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1. The best measure of physical activity levels occurring at a Primary School during recess and lunchtime would b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WO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6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0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Box 7"/>
          <p:cNvSpPr/>
          <p:nvPr/>
        </p:nvSpPr>
        <p:spPr>
          <a:xfrm>
            <a:off x="928800" y="857160"/>
            <a:ext cx="5786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2.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“walking school bus”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an example of a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chool based set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Multi-facetted strategy involving parents, teachers and stud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Structured strate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Government initiative aimed at increasing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TextBox 8"/>
          <p:cNvSpPr/>
          <p:nvPr/>
        </p:nvSpPr>
        <p:spPr>
          <a:xfrm>
            <a:off x="971640" y="4508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chool based set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82" dur="indefinite" restart="never" nodeType="tmRoot">
          <p:childTnLst>
            <p:seq>
              <p:cTn id="2483" dur="indefinite" nodeType="mainSeq">
                <p:childTnLst>
                  <p:par>
                    <p:cTn id="2484" fill="hold">
                      <p:stCondLst>
                        <p:cond delay="0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8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Box 7"/>
          <p:cNvSpPr/>
          <p:nvPr/>
        </p:nvSpPr>
        <p:spPr>
          <a:xfrm>
            <a:off x="785880" y="100008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3. Anaerobic glycolysis results in the production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+ 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Quicker ATP than 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TextBox 8"/>
          <p:cNvSpPr/>
          <p:nvPr/>
        </p:nvSpPr>
        <p:spPr>
          <a:xfrm>
            <a:off x="785880" y="464328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89" dur="indefinite" restart="never" nodeType="tmRoot">
          <p:childTnLst>
            <p:seq>
              <p:cTn id="2490" dur="indefinite" nodeType="mainSeq">
                <p:childTnLst>
                  <p:par>
                    <p:cTn id="2491" fill="hold">
                      <p:stCondLst>
                        <p:cond delay="0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Box 7"/>
          <p:cNvSpPr/>
          <p:nvPr/>
        </p:nvSpPr>
        <p:spPr>
          <a:xfrm>
            <a:off x="71424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4. As exercise intensity increases, there is greater contribution fro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i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iglycerides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96" dur="indefinite" restart="never" nodeType="tmRoot">
          <p:childTnLst>
            <p:seq>
              <p:cTn id="2497" dur="indefinite" nodeType="mainSeq">
                <p:childTnLst>
                  <p:par>
                    <p:cTn id="2498" fill="hold">
                      <p:stCondLst>
                        <p:cond delay="0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2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5. Lactic acid removal occurs quicker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ctive recovery is conduc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trast bathing is u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 sea level compared to higher altitu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0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6. Protein is not commonly called upon to resynthesize ATP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t requires large amounts of oxygen to be broken dow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t results in “muscle meltdown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t runs out quick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t requires large amounts of oxygen to be broken dow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0" dur="indefinite" restart="never" nodeType="tmRoot">
          <p:childTnLst>
            <p:seq>
              <p:cTn id="2511" dur="indefinite" nodeType="mainSeq">
                <p:childTnLst>
                  <p:par>
                    <p:cTn id="2512" fill="hold">
                      <p:stCondLst>
                        <p:cond delay="0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7. Fatigue is caused by many factors, but the predominant one in a 100m sprint lasting  9.7 seconds would b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ctic acid build u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ycogen phosphory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osphocreatine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istribution of blood to skin surf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osphocreatine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17" dur="indefinite" restart="never" nodeType="tmRoot">
          <p:childTnLst>
            <p:seq>
              <p:cTn id="2518" dur="indefinite" nodeType="mainSeq">
                <p:childTnLst>
                  <p:par>
                    <p:cTn id="2519" fill="hold">
                      <p:stCondLst>
                        <p:cond delay="0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8. During dehydr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lood plasma levels dro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art rate 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ess oxygen travels to working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24" dur="indefinite" restart="never" nodeType="tmRoot">
          <p:childTnLst>
            <p:seq>
              <p:cTn id="2525" dur="indefinite" nodeType="mainSeq">
                <p:childTnLst>
                  <p:par>
                    <p:cTn id="2526" fill="hold">
                      <p:stCondLst>
                        <p:cond delay="0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0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59. Following endurance training, glycogen restoration can be accelerat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uming low GI foods within the first 30 – 45 minutes during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uming high GI foods within the first 30 – 45 minutes during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uming 100g carbohydrate for each kilogram of body m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TextBox 8"/>
          <p:cNvSpPr/>
          <p:nvPr/>
        </p:nvSpPr>
        <p:spPr>
          <a:xfrm>
            <a:off x="71424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uming high GI foods within the first 30 – 45 minutes during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31" dur="indefinite" restart="never" nodeType="tmRoot">
          <p:childTnLst>
            <p:seq>
              <p:cTn id="2532" dur="indefinite" nodeType="mainSeq">
                <p:childTnLst>
                  <p:par>
                    <p:cTn id="2533" fill="hold">
                      <p:stCondLst>
                        <p:cond delay="0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7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. Short interval training will result in the following chronic change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“white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0. Local muscular endurance is best exemplified in the follow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Y 11 student completing 35 push ups in 6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Y11 student doing 3 x 100m sprints every 2 minu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Y12 student doing 125 push ups without stopp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Y12 student completing the 60 second push up test after feeling tired in the arms after 35 second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4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Y12 student continuing in the 60 second push up test after feeling tired in the arms after 35 second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38" dur="indefinite" restart="never" nodeType="tmRoot">
          <p:childTnLst>
            <p:seq>
              <p:cTn id="2539" dur="indefinite" nodeType="mainSeq">
                <p:childTnLst>
                  <p:par>
                    <p:cTn id="2540" fill="hold">
                      <p:stCondLst>
                        <p:cond delay="0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4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1.The “Cybex” system is an example of an isokinetic dynamometer that can be used to assess muscle weaknesses at any point in a range of motion. It is also used to measu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uscular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uscular End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uscular 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uscular fatigu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uscular Streng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45" dur="indefinite" restart="never" nodeType="tmRoot">
          <p:childTnLst>
            <p:seq>
              <p:cTn id="2546" dur="indefinite" nodeType="mainSeq">
                <p:childTnLst>
                  <p:par>
                    <p:cTn id="2547" fill="hold">
                      <p:stCondLst>
                        <p:cond delay="0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2. The following is an example of a low stress / low impact plyometric exerci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kipping without a ro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ap push u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iple jump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uck jum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kipping without a ro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0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3. Which one of the following interval sprints would best train the lactic acid syste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8 x 50m sprints every 30 seconds (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8 x 30m sprints every 50 seconds (85% 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x 80m sprints every 180 seconds (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x 80m sprints every 180 seconds (85% 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8 x 50m sprints every 3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fill="hold">
                      <p:stCondLst>
                        <p:cond delay="0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5" dur="2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7"/>
          <p:cNvSpPr/>
          <p:nvPr/>
        </p:nvSpPr>
        <p:spPr>
          <a:xfrm>
            <a:off x="857160" y="428760"/>
            <a:ext cx="8107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4. Long distance athletes are able to train more frequently than power athletes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re catabolic processes are in pl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re anabolic processes are in pl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: Less loads are placed on body systems and hence quicker recovery is possi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ess build up of metabolic by-produ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: Less loads are placed on body systems and hence quicker recovery is possi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2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5.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Olympic gymnast would be able to develop the greatest flexibility by using the following type of stretching: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N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llis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4" name="TextBox 8"/>
          <p:cNvSpPr/>
          <p:nvPr/>
        </p:nvSpPr>
        <p:spPr>
          <a:xfrm>
            <a:off x="785880" y="485784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llist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6. Following 2 years of aerobic training, the following respiratory adaptation would be eviden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alveolar volume (AV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lveolar surface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resting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stroke volume (SV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lveolar surface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80" dur="indefinite" restart="never" nodeType="tmRoot">
          <p:childTnLst>
            <p:seq>
              <p:cTn id="2581" dur="indefinite" nodeType="mainSeq">
                <p:childTnLst>
                  <p:par>
                    <p:cTn id="2582" fill="hold">
                      <p:stCondLst>
                        <p:cond delay="0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6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7. Plyometric training conducted over an 18 month period will result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size and strength of connective tiss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motor unit recruitment at maximal effor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nerve-impulse transmi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0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3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8. The law of diminishing returns is helpful in explaining the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apid gain in fitness components at the start of a training progr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ay elite athletes find it difficult to experience large performance gains after years of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diminishing during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TextBox 8"/>
          <p:cNvSpPr/>
          <p:nvPr/>
        </p:nvSpPr>
        <p:spPr>
          <a:xfrm>
            <a:off x="785880" y="4857840"/>
            <a:ext cx="764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: Way elite athletes find it difficult to experience large performance gains after years of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94" dur="indefinite" restart="never" nodeType="tmRoot">
          <p:childTnLst>
            <p:seq>
              <p:cTn id="2595" dur="indefinite" nodeType="mainSeq">
                <p:childTnLst>
                  <p:par>
                    <p:cTn id="2596" fill="hold">
                      <p:stCondLst>
                        <p:cond delay="0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0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69. Short interval training will result in the following fast twitch fibre adaptations following 2 years of train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myoglobi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C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01" dur="indefinite" restart="never" nodeType="tmRoot">
          <p:childTnLst>
            <p:seq>
              <p:cTn id="2602" dur="indefinite" nodeType="mainSeq">
                <p:childTnLst>
                  <p:par>
                    <p:cTn id="2603" fill="hold">
                      <p:stCondLst>
                        <p:cond delay="0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. Continuous training will result in the following chronic changes to slow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 aerobic force capa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7"/>
          <p:cNvSpPr/>
          <p:nvPr/>
        </p:nvSpPr>
        <p:spPr>
          <a:xfrm>
            <a:off x="85716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0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08" dur="indefinite" restart="never" nodeType="tmRoot">
          <p:childTnLst>
            <p:seq>
              <p:cTn id="2609" dur="indefinite" nodeType="mainSeq">
                <p:childTnLst>
                  <p:par>
                    <p:cTn id="2610" fill="hold">
                      <p:stCondLst>
                        <p:cond delay="0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4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1. Overtraining is characteris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somn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resting heart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motivation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15" dur="indefinite" restart="never" nodeType="tmRoot">
          <p:childTnLst>
            <p:seq>
              <p:cTn id="2616" dur="indefinite" nodeType="mainSeq">
                <p:childTnLst>
                  <p:par>
                    <p:cTn id="2617" fill="hold">
                      <p:stCondLst>
                        <p:cond delay="0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2. An active recovery is best recommended following 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0m spr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00m sw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drotherapy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yometric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00m sw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22" dur="indefinite" restart="never" nodeType="tmRoot">
          <p:childTnLst>
            <p:seq>
              <p:cTn id="2623" dur="indefinite" nodeType="mainSeq">
                <p:childTnLst>
                  <p:par>
                    <p:cTn id="2624" fill="hold">
                      <p:stCondLst>
                        <p:cond delay="0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8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3. The oxygen debt can be increas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forming an active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a hyperbaric chamb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venous pool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forming an active recov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fill="hold">
                      <p:stCondLst>
                        <p:cond delay="0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5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4. Osteitis pubis is an overuse injury that is occurring with greater frequency amongst AFL players. The risk of this side-lining players could be minimis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earing footwear that is appropriate to ground “hard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player pain threshol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earing footwear that is appropriate to ground “hard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36" dur="indefinite" restart="never" nodeType="tmRoot">
          <p:childTnLst>
            <p:seq>
              <p:cTn id="2637" dur="indefinite" nodeType="mainSeq">
                <p:childTnLst>
                  <p:par>
                    <p:cTn id="2638" fill="hold">
                      <p:stCondLst>
                        <p:cond delay="0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2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5. Caffeine is taken by many athletes in an effort to improve their performance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actin-myosin overla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timulating release of noradrena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bilising fat for use instead of 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laying dehyd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bilising fat for use instead of 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43" dur="indefinite" restart="never" nodeType="tmRoot">
          <p:childTnLst>
            <p:seq>
              <p:cTn id="2644" dur="indefinite" nodeType="mainSeq">
                <p:childTnLst>
                  <p:par>
                    <p:cTn id="2645" fill="hold">
                      <p:stCondLst>
                        <p:cond delay="0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9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7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Risk management strategies are likely to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7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The different age levels of athle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Players voluntarily wearing mouth guards during training sess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Administrators taking out public liability insur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The different age levels of athle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50" dur="indefinite" restart="never" nodeType="tmRoot">
          <p:childTnLst>
            <p:seq>
              <p:cTn id="2651" dur="indefinite" nodeType="mainSeq">
                <p:childTnLst>
                  <p:par>
                    <p:cTn id="2652" fill="hold">
                      <p:stCondLst>
                        <p:cond delay="0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6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7. Fitness testing is used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ntify player strengths and weaknes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nitor training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tivate play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57" dur="indefinite" restart="never" nodeType="tmRoot">
          <p:childTnLst>
            <p:seq>
              <p:cTn id="2658" dur="indefinite" nodeType="mainSeq">
                <p:childTnLst>
                  <p:par>
                    <p:cTn id="2659" fill="hold">
                      <p:stCondLst>
                        <p:cond delay="0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3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8. The most specific fitness test available to assess the aerobic capacity of 3000 m  runner would be the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eep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oper’s 12 minute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rvard Step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ycle ergometer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oper’s 12 minute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64" dur="indefinite" restart="never" nodeType="tmRoot">
          <p:childTnLst>
            <p:seq>
              <p:cTn id="2665" dur="indefinite" nodeType="mainSeq">
                <p:childTnLst>
                  <p:par>
                    <p:cTn id="2666" fill="hold">
                      <p:stCondLst>
                        <p:cond delay="0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0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79. The following is not an example of an arousal promotion techniqu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levated breathing 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iofeedba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ergising image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Visuo-motor behaviour rehears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iofeedba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71" dur="indefinite" restart="never" nodeType="tmRoot">
          <p:childTnLst>
            <p:seq>
              <p:cTn id="2672" dur="indefinite" nodeType="mainSeq">
                <p:childTnLst>
                  <p:par>
                    <p:cTn id="2673" fill="hold">
                      <p:stCondLst>
                        <p:cond delay="0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7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. Short interval training will result in the following adaptations to lactic acid tolera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reliance of glucose as a fu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buffering 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cid-base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cid-base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Exogenous creatine monohydrat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Increases intramuscular P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Decreases muscle p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Increases glycogen depend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Decreases ATP reli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Increases intramuscular P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78" dur="indefinite" restart="never" nodeType="tmRoot">
          <p:childTnLst>
            <p:seq>
              <p:cTn id="2679" dur="indefinite" nodeType="mainSeq">
                <p:childTnLst>
                  <p:par>
                    <p:cTn id="2680" fill="hold">
                      <p:stCondLst>
                        <p:cond delay="0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4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Oxygen deficit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Whenever oxygen demand is greater than oxy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Only at the start of exerci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During recovery as oxygen  consumption returns to pre-exercise lev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When athletes train at high altitu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TextBox 8"/>
          <p:cNvSpPr/>
          <p:nvPr/>
        </p:nvSpPr>
        <p:spPr>
          <a:xfrm>
            <a:off x="785880" y="485784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Whenever oxygen demand is greater than oxy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85" dur="indefinite" restart="never" nodeType="tmRoot">
          <p:childTnLst>
            <p:seq>
              <p:cTn id="2686" dur="indefinite" nodeType="mainSeq">
                <p:childTnLst>
                  <p:par>
                    <p:cTn id="2687" fill="hold">
                      <p:stCondLst>
                        <p:cond delay="0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19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2. The following is an objective measure of physical activit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re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irect observ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PL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PS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PS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92" dur="indefinite" restart="never" nodeType="tmRoot">
          <p:childTnLst>
            <p:seq>
              <p:cTn id="2693" dur="indefinite" nodeType="mainSeq">
                <p:childTnLst>
                  <p:par>
                    <p:cTn id="2694" fill="hold">
                      <p:stCondLst>
                        <p:cond delay="0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8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3. The following platform is effective in changing the physical activity levels of large population group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inder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pulation programm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ss med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ocial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gramm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ss med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99" dur="indefinite" restart="never" nodeType="tmRoot">
          <p:childTnLst>
            <p:seq>
              <p:cTn id="2700" dur="indefinite" nodeType="mainSeq">
                <p:childTnLst>
                  <p:par>
                    <p:cTn id="2701" fill="hold">
                      <p:stCondLst>
                        <p:cond delay="0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5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he following population groups are most at risk of not meeting the national physical activity guidelin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People with disabil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Racial major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People above 65 years of 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People with disabil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06" dur="indefinite" restart="never" nodeType="tmRoot">
          <p:childTnLst>
            <p:seq>
              <p:cTn id="2707" dur="indefinite" nodeType="mainSeq">
                <p:childTnLst>
                  <p:par>
                    <p:cTn id="2708" fill="hold">
                      <p:stCondLst>
                        <p:cond delay="0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Schools provide the strongest setting to change physical activity behaviours becaus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Social influences can be structured during leisure activ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Students generally have good access to facilit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Activities can be incorporated into the curricul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13" dur="indefinite" restart="never" nodeType="tmRoot">
          <p:childTnLst>
            <p:seq>
              <p:cTn id="2714" dur="indefinite" nodeType="mainSeq">
                <p:childTnLst>
                  <p:par>
                    <p:cTn id="2715" fill="hold">
                      <p:stCondLst>
                        <p:cond delay="0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9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6. The aerobic energy system has the greatest energ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hophorylatio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figuratio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Yiel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Yiel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20" dur="indefinite" restart="never" nodeType="tmRoot">
          <p:childTnLst>
            <p:seq>
              <p:cTn id="2721" dur="indefinite" nodeType="mainSeq">
                <p:childTnLst>
                  <p:par>
                    <p:cTn id="2722" fill="hold">
                      <p:stCondLst>
                        <p:cond delay="0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6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7. During EPOC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demand exceeds oxygen supp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transfuses in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equals oxygen deman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27" dur="indefinite" restart="never" nodeType="tmRoot">
          <p:childTnLst>
            <p:seq>
              <p:cTn id="2728" dur="indefinite" nodeType="mainSeq">
                <p:childTnLst>
                  <p:par>
                    <p:cTn id="2729" fill="hold">
                      <p:stCondLst>
                        <p:cond delay="0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3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88. Analysis based on digital recording and statistical data is often the most effective because i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the most cost-effective measure avail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obj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s two systems operating and if one fails the other is still 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be reviewed, stored and referred to in the fu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t can be reviewed, stored and referred to in the fu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0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0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38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The running based anaerobic sprint test (RAST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Provides athletes and coaches with measurements of power and a fatigue inde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Assesses the body’s ability to replenish PC in between each repeti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Is expensive because it needs specialist supervi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Is not appropriate for small field players such as badminton and  squas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TextBox 8"/>
          <p:cNvSpPr/>
          <p:nvPr/>
        </p:nvSpPr>
        <p:spPr>
          <a:xfrm>
            <a:off x="785880" y="485784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Provides athletes and coaches with measurements of anaerobic power and a fatigue inde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41" dur="indefinite" restart="never" nodeType="tmRoot">
          <p:childTnLst>
            <p:seq>
              <p:cTn id="2742" dur="indefinite" nodeType="mainSeq">
                <p:childTnLst>
                  <p:par>
                    <p:cTn id="2743" fill="hold">
                      <p:stCondLst>
                        <p:cond delay="0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7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. Training with high intensity/loads and low repetitions will generally result in greater change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Type 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Box 7"/>
          <p:cNvSpPr/>
          <p:nvPr/>
        </p:nvSpPr>
        <p:spPr>
          <a:xfrm>
            <a:off x="857160" y="428760"/>
            <a:ext cx="796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0. The main purpose of measuring physical activity at the population level is to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valuate the effectiveness of large scale physical activity intervention program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ntify the biological, sociological, psychological and environmental factors that influence physical activity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tudy the relationship between physical activity and health condit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48" dur="indefinite" restart="never" nodeType="tmRoot">
          <p:childTnLst>
            <p:seq>
              <p:cTn id="2749" dur="indefinite" nodeType="mainSeq">
                <p:childTnLst>
                  <p:par>
                    <p:cTn id="2750" fill="hold">
                      <p:stCondLst>
                        <p:cond delay="0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4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1. Which of the following statements is INCORRECT?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T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re is approximately ten times as much PC stored at the muscles as there is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TP-PC system is anaerobic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ctic acid system is anaerobic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uring maximal exercise the rate of glycolysis can increase up to 100 times the rate experienced during 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TextBox 8"/>
          <p:cNvSpPr/>
          <p:nvPr/>
        </p:nvSpPr>
        <p:spPr>
          <a:xfrm>
            <a:off x="64296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re is approximately ten times as much PC stored at the muscles as there is AT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55" dur="indefinite" restart="never" nodeType="tmRoot">
          <p:childTnLst>
            <p:seq>
              <p:cTn id="2756" dur="indefinite" nodeType="mainSeq">
                <p:childTnLst>
                  <p:par>
                    <p:cTn id="2757" fill="hold">
                      <p:stCondLst>
                        <p:cond delay="0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2. The oxygen debt can be divided into two parts that occur simultaneously. The first rapid part is primarily involved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verting lactic acid into glycoge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Restoring PC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oving H+ 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Restoring P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fill="hold">
                      <p:stCondLst>
                        <p:cond delay="0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8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3. The most specific type of circuit training i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Individual 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ixed loa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ixed loa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dividual mixed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Individual 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69" dur="indefinite" restart="never" nodeType="tmRoot">
          <p:childTnLst>
            <p:seq>
              <p:cTn id="2770" dur="indefinite" nodeType="mainSeq">
                <p:childTnLst>
                  <p:par>
                    <p:cTn id="2771" fill="hold">
                      <p:stCondLst>
                        <p:cond delay="0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4. Overload should only be applied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-determined ti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en directed by a coa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en adaptations have occurred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hen adaptations have occurred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76" dur="indefinite" restart="never" nodeType="tmRoot">
          <p:childTnLst>
            <p:seq>
              <p:cTn id="2777" dur="indefinite" nodeType="mainSeq">
                <p:childTnLst>
                  <p:par>
                    <p:cTn id="2778" fill="hold">
                      <p:stCondLst>
                        <p:cond delay="0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2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TextBox 7"/>
          <p:cNvSpPr/>
          <p:nvPr/>
        </p:nvSpPr>
        <p:spPr>
          <a:xfrm>
            <a:off x="85716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5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83" dur="indefinite" restart="never" nodeType="tmRoot">
          <p:childTnLst>
            <p:seq>
              <p:cTn id="2784" dur="indefinite" nodeType="mainSeq">
                <p:childTnLst>
                  <p:par>
                    <p:cTn id="2785" fill="hold">
                      <p:stCondLst>
                        <p:cond delay="0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9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Box 7"/>
          <p:cNvSpPr/>
          <p:nvPr/>
        </p:nvSpPr>
        <p:spPr>
          <a:xfrm>
            <a:off x="85716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6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talk using cue words that are instruct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90" dur="indefinite" restart="never" nodeType="tmRoot">
          <p:childTnLst>
            <p:seq>
              <p:cTn id="2791" dur="indefinite" nodeType="mainSeq">
                <p:childTnLst>
                  <p:par>
                    <p:cTn id="2792" fill="hold">
                      <p:stCondLst>
                        <p:cond delay="0"/>
                      </p:stCondLst>
                      <p:childTnLst>
                        <p:par>
                          <p:cTn id="2793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6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Box 7"/>
          <p:cNvSpPr/>
          <p:nvPr/>
        </p:nvSpPr>
        <p:spPr>
          <a:xfrm>
            <a:off x="85716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7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97" dur="indefinite" restart="never" nodeType="tmRoot">
          <p:childTnLst>
            <p:seq>
              <p:cTn id="2798" dur="indefinite" nodeType="mainSeq">
                <p:childTnLst>
                  <p:par>
                    <p:cTn id="2799" fill="hold">
                      <p:stCondLst>
                        <p:cond delay="0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3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7"/>
          <p:cNvSpPr/>
          <p:nvPr/>
        </p:nvSpPr>
        <p:spPr>
          <a:xfrm>
            <a:off x="85716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8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04" dur="indefinite" restart="never" nodeType="tmRoot">
          <p:childTnLst>
            <p:seq>
              <p:cTn id="2805" dur="indefinite" nodeType="mainSeq">
                <p:childTnLst>
                  <p:par>
                    <p:cTn id="2806" fill="hold">
                      <p:stCondLst>
                        <p:cond delay="0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0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Box 7"/>
          <p:cNvSpPr/>
          <p:nvPr/>
        </p:nvSpPr>
        <p:spPr>
          <a:xfrm>
            <a:off x="85716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399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11" dur="indefinite" restart="never" nodeType="tmRoot">
          <p:childTnLst>
            <p:seq>
              <p:cTn id="2812" dur="indefinite" nodeType="mainSeq">
                <p:childTnLst>
                  <p:par>
                    <p:cTn id="2813" fill="hold">
                      <p:stCondLst>
                        <p:cond delay="0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7"/>
          <p:cNvSpPr/>
          <p:nvPr/>
        </p:nvSpPr>
        <p:spPr>
          <a:xfrm>
            <a:off x="714240" y="42876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. For overweight and obese individuals, to prevent weight regain once weight is los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0-60 minutes of physical activity is recommended on at least 5 day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60-90 minutes of physical activity is recommended on at least 5 days per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60-90 minutes of physical activity is recommended per day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0-6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60-90 minutes of physical activity is recommended per da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0. Massage assists recovery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blood flow to 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amount of oxygen transported to 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ate of waste removal fro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4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drogen ions (H+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 startAt="4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A: Formulate the actin and myosin cross bridges  during contrac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B: Accelerate ATP resynthe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C: Disrupt glycolytic enzymes and slow the breakdown of glyco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5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8" dur="indefinite" restart="never" nodeType="tmRoot">
          <p:childTnLst>
            <p:seq>
              <p:cTn id="2819" dur="indefinite" nodeType="mainSeq">
                <p:childTnLst>
                  <p:par>
                    <p:cTn id="2820" fill="hold">
                      <p:stCondLst>
                        <p:cond delay="0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4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7" dur="1" fill="hold"/>
                                        <p:tgtEl>
                                          <p:spTgt spid="9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1. The most effective way of monitoring training response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y to remember everything undertaken during a week of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Listen” to what your body is saying to you by the way it fe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64296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2. Risk management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Identif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Re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Avoid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3. Coaches might contribute to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first aid kits are available at every training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listing the support of non paid qualified staf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4. Risk management procedures extend beyond team management to facilities and equipment. The following must be taken into consideration in this are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ctive equipment and barri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quipment c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ygie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857160" y="42876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5. The following is a practical example of how AFL football teams try to prevent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players participate in accredited courses so they’ll have a job when they finish play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new pre-season training methods that have worked with in the USA for NFL footballers but haven’t been trialled he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ers wearing helmets to avoid serious head injuries (similar to NFL footballer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6. The following strategy can assist enhancing performance by building or maintaining confide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talk using cue words that are instruct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Walking the talk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king an injury to upset an opponent’s concent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talk using cue words that are instruct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7. The following drink allows quickest absorption and hydr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a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u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8. Minerals are important in assisting performance PB’s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ssisting in water loss to help with thermo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ding to the amount of ATP that can be produc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the Essential Electrolytic Balance (EEB) is maintain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49. EPO is often taken by endurance athletes despite being banned by WADA. Side-effect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. Stage 6 of the “Stages of Change” model is known as the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Termination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stage which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ows participants to temporarily “drop out” of physical activity for a period of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es performers involved in regular physical activity for a period of more than 5 ye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only be experienced when Stage 5 has been met for at least 6 mon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es performers involved in regular physical activity for a period of more than 5 yea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0.  An example of a medico-legal issue being raised by athletes taking legal performance enhancers such as creatine monohydrate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ffering an allergic reaction to the sub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being admitted to hospit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ing the administrative body for a “botched up” Series A samp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hletes suffering an allergic reaction to the sub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7"/>
          <p:cNvSpPr/>
          <p:nvPr/>
        </p:nvSpPr>
        <p:spPr>
          <a:xfrm>
            <a:off x="857160" y="428760"/>
            <a:ext cx="803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1. In terms of the physical activity pyramid, lifetime physical activities should have the following  Frequency (F); Intensity (I) and Time/Duration (T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 = most days of the week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I = Moderate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 = 30 minutes minim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 = 3-4 days of the week   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 = Moderate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 = 30 minutes minim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 = most days of the week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 = Vigorous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 = 60 minutes minim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 = 3-4  days of the week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 =  Vigorous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 = 30 minutes minim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 = most days of the week  I = Moderate  T = 30 minutes minim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7"/>
          <p:cNvSpPr/>
          <p:nvPr/>
        </p:nvSpPr>
        <p:spPr>
          <a:xfrm>
            <a:off x="928800" y="857160"/>
            <a:ext cx="5786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2. The most consistent predictor of children’s physical activity levels, according to the CLASS study, is the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mount of encouragement provided by par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mount of time spent outdo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educational attainment of par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socio-economic status of their fami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1000080" y="4429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mount of time spent outdo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7"/>
          <p:cNvSpPr/>
          <p:nvPr/>
        </p:nvSpPr>
        <p:spPr>
          <a:xfrm>
            <a:off x="785880" y="1000080"/>
            <a:ext cx="796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3. According to the National Physical Activity Guidelin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ults should engage in more physical activity than child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ildren should engage in twice as much physical activity as adul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ults should engage in at least 2 hours of electronic media for entertain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ildren should engage in at least 2 hours of electronic media for entertain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785880" y="46432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ildren should engage in twice as much physical activity as adul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7"/>
          <p:cNvSpPr/>
          <p:nvPr/>
        </p:nvSpPr>
        <p:spPr>
          <a:xfrm>
            <a:off x="71424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4. Effective interventions target changes in the following four dimension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terpersonal, workplace, social &amp; poli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trapersonal, social, physical environment &amp; poli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PPI (Social, Political, Personal and Industrial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trapersonal, social, physical environment &amp; poli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5. The following is an example of a cognitive strategy to bring about chang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prehending personal benefits of being physically a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viding rewards for being physically a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listing social sup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prehending personal benefits of being physically activ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6. Stage 2 of the “Stages of Change” model is also known 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pa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temp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lap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temp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7. Self-efficacy can best be described a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eeling confident you can participate in activities under certain circumsta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eing able to speak in front of a group of peop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nowing you have the potential to do something better than what you currently 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ever giving up easi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eeling confident you can participate in activities under certain circumsta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8. The most effective school based setting physical activity promoting strateg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Department of Education printed material outlining physical activity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mote increased physical activity during breaks, and especially lunch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ffer before and after school sporting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59. A benefit associated with having a physically active group of office worker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absentee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rodu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staff turno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71424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. The following is an example of a “constructed environment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kate park next to a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statue in the local mal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ving to replace footpath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A skate park next to a sch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0. At rest, most of our energy comes fro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rbohydra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i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combination of 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1. The ATP-PC system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Anaerob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Quick to supply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mited by the amount of available phosphocreat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2. The energy system interplay is best described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the ATP-PC system, then the LA system and lastly the aerobic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are used during play rather than r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three energy systems collectively supply  ATP to working muscles in a sequential patter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TP is released from all 3 energy systems, but one contributing more than the other two sys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3. Once the lactate threshold is exceeded, the following occur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 becomes the major energy suppli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 is able to replenish energy stores now that it is not being used and “rest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n active recovery should commence immediate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 Most ATP resynthesis occurs as a result of anaerobic glyco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7"/>
          <p:cNvSpPr/>
          <p:nvPr/>
        </p:nvSpPr>
        <p:spPr>
          <a:xfrm>
            <a:off x="857160" y="42876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4. Steady state occurs whe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consumption reaches a maximum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Cori cycle starts to break down built up lactic acid and convert it to glycogen to be reus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heart and lungs have had sufficient time to supply working muscles with oxyg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xygen supply is equal to oxygen dem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5. The most likely cause of fatigue for a 100m sprinter (athletics)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C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owered muscle P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cumulation of iron(s) – Fe, Ph, Al, et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ctic Acid accum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C deple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6. Following a 10 second interval sprint (max intensity) how long would it take to replenish fuel stores used in the work perio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seconds (1: 1 work : rest ratio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8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4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0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18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7. Males exhibit greater muscular strength than females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participation in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more unipennate mus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ing a higher percentage of fast-twitch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ross sectional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ross sectional ar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8. Anaerobic power is a measure of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PC system’s ability to produce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LA system’s ability to produce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bility of the anaerobic systems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bility of the anaerobic systems to provide energy via their pathway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69. The most important fitness component for a 1,500m swimmer performing a tumble turn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action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Bal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erobic Pow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g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. The mass media promotes involvement in physical activity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interest in physical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viding information about the consequences of in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viding information about the psychological benefits of being a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0. The purpose of conducting a games analysi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ork out the important fitness compon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nsider the interplay of energy systems during the 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ide on how to best prepare / train for the actual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1. The most appropriate fitness tests on offer ar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i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Vali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leva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2. The most specific test to assess the agility of a tennis player would be th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llinois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rvard Twist Touch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rgarita Agility Ru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mo Agility Te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7"/>
          <p:cNvSpPr/>
          <p:nvPr/>
        </p:nvSpPr>
        <p:spPr>
          <a:xfrm>
            <a:off x="857160" y="4287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3. Males would be expected to score better on the vertical jump test than females because the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in more than fema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ssess greater ankle flexibility and can generate greater push off as a result of th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 more football than girls and this is an action specific to the g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ave greater cross sectional area in the quadriceps/hamstring reg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4. A training year can be broken down into smaller sections such as “pre-season”, “competition” and “off-season”. These are examples of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s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icro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i-cyc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eriod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5. The recommended frequency for athletes seeking aerobic training improvements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3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7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4-5 times / we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6. Any “plateau” during a training program indicat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athlete needs to be thinking about “tapering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“steady State” has been achiev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period of adapt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7. The best example of long interval training listed below 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0 x 2 x 1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0 m runs with a w:r ratio of 1: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0 x 10,000m runs with a w:r ratio of 1:1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2 x 2 x 1,000 m runs with a w:r ratio of 1: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8. “Fartlek” training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an be overloaded by completing the same distance in a slower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s also knows as “playing with speed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quires rest periods to restore P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ombines continuous activity with short bursts of intense work at regular interv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79. Plyometrics are exemplified by the following group of activit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kipping, max push ups in 60 seconds, running on the spot for 30 seconds (max intensity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10 x 20 m sprints every 45 seconds followed by 15 x 15m sprints every 30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pth Jumps, clap push-ups, bound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. The most effective school based setting physical activity promoting strategi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ave Department of Education printed material outlining physical activity benefi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mote increased physical activity during breaks, and especially lunch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ffer before and after school sporting progra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0. Plyometrics can be overloaded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ing the weight and increasing the 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est and decreasing the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king the muscles to contract more forcefully by jumping higher or performing at a higher intens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1. In the following exercise prescription for resistance training ~ 4 x 8 x 80kg, the 4 represent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peti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sist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day of the week training is undertak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9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2. The following is most likely to result from participation in an aerobic training program lasting 12+ mth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pillaris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lasma volu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ardiac outp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3. Increased myoglobin levels resulting from aerobic conditioning / training assist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ansporting more oxygen around the vascular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venting the myoglotic stretch reflex (less slow twitch muscle trai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78588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ving more oxygen from cell membranes to the mitochondr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4. Aerobic training results in decreases to the systolic blood pressure (except at max effort) due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LDL’s and reducing plaque build up on the inside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ciprocal increases in diastolic blood press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mproved elasticity of blood vess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5. Aerobic training has the following effect on ventilatory muscle oxygen consumption at the diaphragm &amp; intercostal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mains relatively unchang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6. Short interval training will result in the following chronic changes to fast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“whiteness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7. Continuous training will result in the following chronic changes to slow twitch muscle fibr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 aerobic force capac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nti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contraction spe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triglycerid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8. Short interval training will result in the following adaptations to lactic acid tolera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reliance of glucose as a fu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oxidative enzyme sto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Decreased buffering abi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cid-base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acid-base 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7"/>
          <p:cNvSpPr/>
          <p:nvPr/>
        </p:nvSpPr>
        <p:spPr>
          <a:xfrm>
            <a:off x="857160" y="428760"/>
            <a:ext cx="7500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89. Training with high intensity/loads and low repetitions will generally result in greater changes 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ype IA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Type IIB fib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. A benefit associated with having a physically active group of office worker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absentee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ed produ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duced staff turno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71424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0. Massage assists recovery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blood flow to 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amount of oxygen transported to 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creasing the rate of waste removal from</a:t>
            </a: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 massaged area(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1. The most effective way of monitoring training responses is t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ry to remember everything undertaken during a week of trai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Listen” to what your body is saying to you by the way it fe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None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TextBox 8"/>
          <p:cNvSpPr/>
          <p:nvPr/>
        </p:nvSpPr>
        <p:spPr>
          <a:xfrm>
            <a:off x="64296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Keep a training lo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2. Risk management includ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Identif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Redu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isk Avoida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3. Coaches might contribute to risks associated with the team they are training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first aid kits are available at every training ses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listing the support of non paid qualified staf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785880" y="485784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 Encouraging players to play with “niggling injuries” for the benefit of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4. Risk management procedures extend beyond team management to facilities and equipment. The following must be taken into consideration in this area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tective equipment and barri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quipment c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ygie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7"/>
          <p:cNvSpPr/>
          <p:nvPr/>
        </p:nvSpPr>
        <p:spPr>
          <a:xfrm>
            <a:off x="857160" y="42876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5. The following is a practical example of how AFL football teams try to prevent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players participate in accredited courses so they’ll have a job when they finish play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sing new pre-season training methods that have worked with in the USA for NFL footballers but haven’t been trialled he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yers wearing helmets to avoid serious head injuries (similar to NFL footballer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eater emphasis on strengthening hamstring muscles during training to avoid knee inju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6. The following strategy can assist enhancing performance by building or maintaining confiden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talk using cue words that are instruct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“Walking the talk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aking an injury to upset an opponent’s concent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lf-talk using cue words that are instruction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7. The following drink allows quickest absorption and hydr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a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u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on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7"/>
          <p:cNvSpPr/>
          <p:nvPr/>
        </p:nvSpPr>
        <p:spPr>
          <a:xfrm>
            <a:off x="857160" y="42876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8. Minerals are important in assisting performance PB’s by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ssisting in water loss to help with thermoregul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dding to the amount of ATP that can be produc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suring the Essential Electrolytic Balance (EEB) is maintain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aintaining an acid-base balance to ensure normal cellular fun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7"/>
          <p:cNvSpPr/>
          <p:nvPr/>
        </p:nvSpPr>
        <p:spPr>
          <a:xfrm>
            <a:off x="857160" y="42876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99. EPO is often taken by endurance athletes despite being banned by WADA. Side-effects inclu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A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activ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B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o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ll of the abo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Box 8"/>
          <p:cNvSpPr/>
          <p:nvPr/>
        </p:nvSpPr>
        <p:spPr>
          <a:xfrm>
            <a:off x="785880" y="48578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Calibri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C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yperten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04:43:37Z</dcterms:created>
  <dc:creator>Computer of:</dc:creator>
  <dc:description/>
  <dc:language>en-US</dc:language>
  <cp:lastModifiedBy>Computer of:</cp:lastModifiedBy>
  <dcterms:modified xsi:type="dcterms:W3CDTF">2009-08-24T13:03:41Z</dcterms:modified>
  <cp:revision>282</cp:revision>
  <dc:subject/>
  <dc:title>Slide 1</dc:title>
</cp:coreProperties>
</file>